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784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iddle ages began in the wake of Roman collaps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17784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ime of societal decay AND religious growth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17784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uled by people the modern Romans would call barbaric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17784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arbaric term used by ancient Greeks  was barbaroy- this referred to anyone  whose language they did not understand-these were foreign (German) tribes that were infiltrating the roman empire threatening  society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17784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17784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ventually order was restored and the ideals of Rome survived and the Christian church is given credit for thi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17784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eserving the Latin language, style of dress and the fact that Rome remained the center of the catholic faith represented loyalty to ancient Rom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177840" indent="0">
              <a:lnSpc>
                <a:spcPct val="100000"/>
              </a:lnSpc>
              <a:spcBef>
                <a:spcPts val="5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hristianity molded its organizational structure along the lines of Roman imperial administratio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3004640" cy="2387520"/>
          </a:xfrm>
          <a:prstGeom prst="rect">
            <a:avLst/>
          </a:prstGeom>
          <a:noFill/>
          <a:ln w="0">
            <a:noFill/>
          </a:ln>
        </p:spPr>
        <p:txBody>
          <a:bodyPr lIns="50760" rIns="14040" tIns="50760" bIns="50760" anchor="ctr">
            <a:noAutofit/>
          </a:bodyPr>
          <a:p>
            <a:pPr marL="57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4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What are the ‘Middle Ages’?</a:t>
            </a:r>
            <a:endParaRPr b="0" lang="en-US" sz="7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68280" y="1270080"/>
            <a:ext cx="11214000" cy="7912080"/>
          </a:xfrm>
          <a:prstGeom prst="rect">
            <a:avLst/>
          </a:prstGeom>
          <a:noFill/>
          <a:ln w="0">
            <a:noFill/>
          </a:ln>
        </p:spPr>
        <p:txBody>
          <a:bodyPr lIns="50760" rIns="14040" tIns="50760" bIns="50760" anchor="ctr">
            <a:normAutofit/>
          </a:bodyPr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d90b00"/>
                </a:solidFill>
                <a:latin typeface="Gill Sans"/>
              </a:rPr>
              <a:t>The period after the </a:t>
            </a:r>
            <a:r>
              <a:rPr b="0" lang="en-US" sz="5800" spc="-1" strike="noStrike" u="sng">
                <a:solidFill>
                  <a:srgbClr val="d90b00"/>
                </a:solidFill>
                <a:uFillTx/>
                <a:latin typeface="Gill Sans"/>
              </a:rPr>
              <a:t>Roman Empire</a:t>
            </a:r>
            <a:r>
              <a:rPr b="0" lang="en-US" sz="5800" spc="-1" strike="noStrike">
                <a:solidFill>
                  <a:srgbClr val="d90b00"/>
                </a:solidFill>
                <a:latin typeface="Gill Sans"/>
              </a:rPr>
              <a:t> fell to the era of the explorers!</a:t>
            </a:r>
            <a:endParaRPr b="0" lang="en-US" sz="5800" spc="-1" strike="noStrike">
              <a:solidFill>
                <a:srgbClr val="ffffff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ffff"/>
                </a:solidFill>
                <a:latin typeface="Gill Sans"/>
              </a:rPr>
              <a:t>Medieval </a:t>
            </a:r>
            <a:r>
              <a:rPr b="0" lang="en-US" sz="5800" spc="-1" strike="noStrike" u="sng">
                <a:solidFill>
                  <a:srgbClr val="ffffff"/>
                </a:solidFill>
                <a:uFillTx/>
                <a:latin typeface="Gill Sans"/>
              </a:rPr>
              <a:t>Europe</a:t>
            </a:r>
            <a:r>
              <a:rPr b="0" lang="en-US" sz="5800" spc="-1" strike="noStrike">
                <a:solidFill>
                  <a:srgbClr val="ffffff"/>
                </a:solidFill>
                <a:latin typeface="Gill Sans"/>
              </a:rPr>
              <a:t> was </a:t>
            </a:r>
            <a:r>
              <a:rPr b="0" lang="en-US" sz="5800" spc="-1" strike="noStrike" u="sng">
                <a:solidFill>
                  <a:srgbClr val="ffffff"/>
                </a:solidFill>
                <a:uFillTx/>
                <a:latin typeface="Gill Sans"/>
              </a:rPr>
              <a:t>fragmented</a:t>
            </a:r>
            <a:r>
              <a:rPr b="0" lang="en-US" sz="5800" spc="-1" strike="noStrike">
                <a:solidFill>
                  <a:srgbClr val="ffffff"/>
                </a:solidFill>
                <a:latin typeface="Gill Sans"/>
              </a:rPr>
              <a:t> after the </a:t>
            </a:r>
            <a:r>
              <a:rPr b="0" lang="en-US" sz="5800" spc="-1" strike="noStrike" u="sng">
                <a:solidFill>
                  <a:srgbClr val="ffffff"/>
                </a:solidFill>
                <a:uFillTx/>
                <a:latin typeface="Gill Sans"/>
              </a:rPr>
              <a:t>Germanic</a:t>
            </a:r>
            <a:r>
              <a:rPr b="0" lang="en-US" sz="5800" spc="-1" strike="noStrike">
                <a:solidFill>
                  <a:srgbClr val="ffffff"/>
                </a:solidFill>
                <a:latin typeface="Gill Sans"/>
              </a:rPr>
              <a:t> Tribes took over</a:t>
            </a:r>
            <a:endParaRPr b="0" lang="en-US" sz="5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"/>
          <p:cNvGrpSpPr/>
          <p:nvPr/>
        </p:nvGrpSpPr>
        <p:grpSpPr>
          <a:xfrm>
            <a:off x="0" y="0"/>
            <a:ext cx="13004640" cy="9867960"/>
            <a:chOff x="0" y="0"/>
            <a:chExt cx="13004640" cy="9867960"/>
          </a:xfrm>
        </p:grpSpPr>
        <p:sp>
          <p:nvSpPr>
            <p:cNvPr id="532" name=""/>
            <p:cNvSpPr/>
            <p:nvPr/>
          </p:nvSpPr>
          <p:spPr>
            <a:xfrm>
              <a:off x="0" y="4989600"/>
              <a:ext cx="5676840" cy="4448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359" y="19495"/>
                  </a:moveTo>
                  <a:lnTo>
                    <a:pt x="6390" y="18300"/>
                  </a:lnTo>
                  <a:lnTo>
                    <a:pt x="7163" y="17839"/>
                  </a:lnTo>
                  <a:lnTo>
                    <a:pt x="7317" y="15350"/>
                  </a:lnTo>
                  <a:lnTo>
                    <a:pt x="7163" y="13431"/>
                  </a:lnTo>
                  <a:lnTo>
                    <a:pt x="7523" y="12839"/>
                  </a:lnTo>
                  <a:lnTo>
                    <a:pt x="7738" y="13903"/>
                  </a:lnTo>
                  <a:lnTo>
                    <a:pt x="8408" y="15021"/>
                  </a:lnTo>
                  <a:lnTo>
                    <a:pt x="9585" y="16655"/>
                  </a:lnTo>
                  <a:lnTo>
                    <a:pt x="10572" y="17773"/>
                  </a:lnTo>
                  <a:lnTo>
                    <a:pt x="11620" y="17894"/>
                  </a:lnTo>
                  <a:lnTo>
                    <a:pt x="12634" y="18563"/>
                  </a:lnTo>
                  <a:lnTo>
                    <a:pt x="14291" y="18190"/>
                  </a:lnTo>
                  <a:lnTo>
                    <a:pt x="15622" y="18398"/>
                  </a:lnTo>
                  <a:lnTo>
                    <a:pt x="16962" y="17894"/>
                  </a:lnTo>
                  <a:lnTo>
                    <a:pt x="16258" y="16589"/>
                  </a:lnTo>
                  <a:lnTo>
                    <a:pt x="16490" y="15186"/>
                  </a:lnTo>
                  <a:lnTo>
                    <a:pt x="16095" y="14089"/>
                  </a:lnTo>
                  <a:lnTo>
                    <a:pt x="16017" y="12379"/>
                  </a:lnTo>
                  <a:lnTo>
                    <a:pt x="15313" y="10603"/>
                  </a:lnTo>
                  <a:lnTo>
                    <a:pt x="13115" y="9769"/>
                  </a:lnTo>
                  <a:lnTo>
                    <a:pt x="11071" y="9572"/>
                  </a:lnTo>
                  <a:lnTo>
                    <a:pt x="11964" y="8563"/>
                  </a:lnTo>
                  <a:lnTo>
                    <a:pt x="13304" y="8169"/>
                  </a:lnTo>
                  <a:lnTo>
                    <a:pt x="13913" y="8092"/>
                  </a:lnTo>
                  <a:lnTo>
                    <a:pt x="15056" y="8026"/>
                  </a:lnTo>
                  <a:lnTo>
                    <a:pt x="16602" y="7894"/>
                  </a:lnTo>
                  <a:lnTo>
                    <a:pt x="18096" y="6776"/>
                  </a:lnTo>
                  <a:lnTo>
                    <a:pt x="19127" y="5658"/>
                  </a:lnTo>
                  <a:lnTo>
                    <a:pt x="20415" y="4802"/>
                  </a:lnTo>
                  <a:lnTo>
                    <a:pt x="21600" y="3695"/>
                  </a:lnTo>
                  <a:lnTo>
                    <a:pt x="20784" y="3761"/>
                  </a:lnTo>
                  <a:lnTo>
                    <a:pt x="18817" y="3761"/>
                  </a:lnTo>
                  <a:lnTo>
                    <a:pt x="17838" y="3629"/>
                  </a:lnTo>
                  <a:lnTo>
                    <a:pt x="17632" y="3300"/>
                  </a:lnTo>
                  <a:lnTo>
                    <a:pt x="16756" y="3300"/>
                  </a:lnTo>
                  <a:lnTo>
                    <a:pt x="15416" y="2840"/>
                  </a:lnTo>
                  <a:lnTo>
                    <a:pt x="14128" y="3169"/>
                  </a:lnTo>
                  <a:lnTo>
                    <a:pt x="12428" y="4079"/>
                  </a:lnTo>
                  <a:lnTo>
                    <a:pt x="11139" y="4474"/>
                  </a:lnTo>
                  <a:lnTo>
                    <a:pt x="9903" y="4539"/>
                  </a:lnTo>
                  <a:lnTo>
                    <a:pt x="11234" y="3695"/>
                  </a:lnTo>
                  <a:lnTo>
                    <a:pt x="12582" y="2171"/>
                  </a:lnTo>
                  <a:lnTo>
                    <a:pt x="12479" y="1842"/>
                  </a:lnTo>
                  <a:lnTo>
                    <a:pt x="12582" y="1118"/>
                  </a:lnTo>
                  <a:lnTo>
                    <a:pt x="12685" y="395"/>
                  </a:lnTo>
                  <a:lnTo>
                    <a:pt x="12479" y="0"/>
                  </a:lnTo>
                  <a:lnTo>
                    <a:pt x="12170" y="263"/>
                  </a:lnTo>
                  <a:lnTo>
                    <a:pt x="11646" y="461"/>
                  </a:lnTo>
                  <a:lnTo>
                    <a:pt x="10212" y="1118"/>
                  </a:lnTo>
                  <a:lnTo>
                    <a:pt x="9430" y="1579"/>
                  </a:lnTo>
                  <a:lnTo>
                    <a:pt x="8812" y="1579"/>
                  </a:lnTo>
                  <a:lnTo>
                    <a:pt x="8511" y="1842"/>
                  </a:lnTo>
                  <a:lnTo>
                    <a:pt x="7635" y="3629"/>
                  </a:lnTo>
                  <a:lnTo>
                    <a:pt x="7317" y="4474"/>
                  </a:lnTo>
                  <a:lnTo>
                    <a:pt x="6235" y="5263"/>
                  </a:lnTo>
                  <a:lnTo>
                    <a:pt x="5574" y="5921"/>
                  </a:lnTo>
                  <a:lnTo>
                    <a:pt x="5522" y="5921"/>
                  </a:lnTo>
                  <a:lnTo>
                    <a:pt x="5471" y="5855"/>
                  </a:lnTo>
                  <a:lnTo>
                    <a:pt x="5153" y="5658"/>
                  </a:lnTo>
                  <a:lnTo>
                    <a:pt x="4844" y="5395"/>
                  </a:lnTo>
                  <a:lnTo>
                    <a:pt x="4741" y="5329"/>
                  </a:lnTo>
                  <a:lnTo>
                    <a:pt x="4638" y="5197"/>
                  </a:lnTo>
                  <a:lnTo>
                    <a:pt x="4535" y="5066"/>
                  </a:lnTo>
                  <a:lnTo>
                    <a:pt x="4329" y="4868"/>
                  </a:lnTo>
                  <a:lnTo>
                    <a:pt x="4071" y="4671"/>
                  </a:lnTo>
                  <a:lnTo>
                    <a:pt x="3813" y="4474"/>
                  </a:lnTo>
                  <a:lnTo>
                    <a:pt x="3564" y="4276"/>
                  </a:lnTo>
                  <a:lnTo>
                    <a:pt x="3307" y="4079"/>
                  </a:lnTo>
                  <a:lnTo>
                    <a:pt x="3143" y="4013"/>
                  </a:lnTo>
                  <a:lnTo>
                    <a:pt x="3092" y="3947"/>
                  </a:lnTo>
                  <a:lnTo>
                    <a:pt x="1649" y="2566"/>
                  </a:lnTo>
                  <a:lnTo>
                    <a:pt x="1804" y="3366"/>
                  </a:lnTo>
                  <a:lnTo>
                    <a:pt x="4895" y="6184"/>
                  </a:lnTo>
                  <a:lnTo>
                    <a:pt x="4792" y="6776"/>
                  </a:lnTo>
                  <a:lnTo>
                    <a:pt x="3813" y="8026"/>
                  </a:lnTo>
                  <a:lnTo>
                    <a:pt x="2783" y="8629"/>
                  </a:lnTo>
                  <a:lnTo>
                    <a:pt x="2731" y="8629"/>
                  </a:lnTo>
                  <a:lnTo>
                    <a:pt x="2216" y="8892"/>
                  </a:lnTo>
                  <a:lnTo>
                    <a:pt x="1091" y="9353"/>
                  </a:lnTo>
                  <a:lnTo>
                    <a:pt x="0" y="9879"/>
                  </a:lnTo>
                  <a:lnTo>
                    <a:pt x="0" y="12774"/>
                  </a:lnTo>
                  <a:lnTo>
                    <a:pt x="670" y="12576"/>
                  </a:lnTo>
                  <a:lnTo>
                    <a:pt x="3195" y="11129"/>
                  </a:lnTo>
                  <a:lnTo>
                    <a:pt x="2886" y="12247"/>
                  </a:lnTo>
                  <a:lnTo>
                    <a:pt x="1907" y="13837"/>
                  </a:lnTo>
                  <a:lnTo>
                    <a:pt x="1245" y="15931"/>
                  </a:lnTo>
                  <a:lnTo>
                    <a:pt x="1194" y="15997"/>
                  </a:lnTo>
                  <a:lnTo>
                    <a:pt x="1142" y="16063"/>
                  </a:lnTo>
                  <a:lnTo>
                    <a:pt x="876" y="16392"/>
                  </a:lnTo>
                  <a:lnTo>
                    <a:pt x="773" y="16523"/>
                  </a:lnTo>
                  <a:lnTo>
                    <a:pt x="721" y="16655"/>
                  </a:lnTo>
                  <a:lnTo>
                    <a:pt x="721" y="16787"/>
                  </a:lnTo>
                  <a:lnTo>
                    <a:pt x="824" y="16852"/>
                  </a:lnTo>
                  <a:lnTo>
                    <a:pt x="979" y="16984"/>
                  </a:lnTo>
                  <a:lnTo>
                    <a:pt x="1091" y="17181"/>
                  </a:lnTo>
                  <a:lnTo>
                    <a:pt x="1194" y="17510"/>
                  </a:lnTo>
                  <a:lnTo>
                    <a:pt x="1245" y="17905"/>
                  </a:lnTo>
                  <a:lnTo>
                    <a:pt x="1288" y="18234"/>
                  </a:lnTo>
                  <a:lnTo>
                    <a:pt x="1340" y="18563"/>
                  </a:lnTo>
                  <a:lnTo>
                    <a:pt x="1391" y="18826"/>
                  </a:lnTo>
                  <a:lnTo>
                    <a:pt x="1391" y="18892"/>
                  </a:lnTo>
                  <a:lnTo>
                    <a:pt x="1855" y="19692"/>
                  </a:lnTo>
                  <a:lnTo>
                    <a:pt x="1855" y="19758"/>
                  </a:lnTo>
                  <a:lnTo>
                    <a:pt x="1907" y="19890"/>
                  </a:lnTo>
                  <a:lnTo>
                    <a:pt x="1958" y="20284"/>
                  </a:lnTo>
                  <a:lnTo>
                    <a:pt x="2010" y="20679"/>
                  </a:lnTo>
                  <a:lnTo>
                    <a:pt x="2061" y="20876"/>
                  </a:lnTo>
                  <a:lnTo>
                    <a:pt x="2061" y="21008"/>
                  </a:lnTo>
                  <a:lnTo>
                    <a:pt x="2113" y="21074"/>
                  </a:lnTo>
                  <a:lnTo>
                    <a:pt x="2164" y="21205"/>
                  </a:lnTo>
                  <a:lnTo>
                    <a:pt x="2216" y="21600"/>
                  </a:lnTo>
                  <a:lnTo>
                    <a:pt x="3762" y="21600"/>
                  </a:lnTo>
                  <a:lnTo>
                    <a:pt x="3968" y="21074"/>
                  </a:lnTo>
                  <a:lnTo>
                    <a:pt x="5359" y="19495"/>
                  </a:lnTo>
                  <a:lnTo>
                    <a:pt x="5359" y="19495"/>
                  </a:lnTo>
                  <a:close/>
                  <a:moveTo>
                    <a:pt x="5359" y="19495"/>
                  </a:moveTo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0" y="5638680"/>
              <a:ext cx="4762440" cy="362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901" y="13283"/>
                  </a:moveTo>
                  <a:lnTo>
                    <a:pt x="5535" y="8699"/>
                  </a:lnTo>
                  <a:lnTo>
                    <a:pt x="6817" y="5031"/>
                  </a:lnTo>
                  <a:lnTo>
                    <a:pt x="9432" y="7476"/>
                  </a:lnTo>
                  <a:lnTo>
                    <a:pt x="12352" y="11067"/>
                  </a:lnTo>
                  <a:lnTo>
                    <a:pt x="15088" y="14124"/>
                  </a:lnTo>
                  <a:lnTo>
                    <a:pt x="18314" y="17321"/>
                  </a:lnTo>
                  <a:lnTo>
                    <a:pt x="19158" y="18008"/>
                  </a:lnTo>
                  <a:lnTo>
                    <a:pt x="18680" y="17244"/>
                  </a:lnTo>
                  <a:lnTo>
                    <a:pt x="14356" y="12749"/>
                  </a:lnTo>
                  <a:lnTo>
                    <a:pt x="11070" y="8699"/>
                  </a:lnTo>
                  <a:lnTo>
                    <a:pt x="7356" y="4190"/>
                  </a:lnTo>
                  <a:lnTo>
                    <a:pt x="10164" y="3961"/>
                  </a:lnTo>
                  <a:lnTo>
                    <a:pt x="13084" y="4037"/>
                  </a:lnTo>
                  <a:lnTo>
                    <a:pt x="16421" y="3426"/>
                  </a:lnTo>
                  <a:lnTo>
                    <a:pt x="21600" y="2509"/>
                  </a:lnTo>
                  <a:lnTo>
                    <a:pt x="21112" y="2203"/>
                  </a:lnTo>
                  <a:lnTo>
                    <a:pt x="15699" y="3273"/>
                  </a:lnTo>
                  <a:lnTo>
                    <a:pt x="12291" y="3502"/>
                  </a:lnTo>
                  <a:lnTo>
                    <a:pt x="7722" y="3273"/>
                  </a:lnTo>
                  <a:lnTo>
                    <a:pt x="8333" y="2891"/>
                  </a:lnTo>
                  <a:lnTo>
                    <a:pt x="11619" y="0"/>
                  </a:lnTo>
                  <a:lnTo>
                    <a:pt x="11070" y="382"/>
                  </a:lnTo>
                  <a:lnTo>
                    <a:pt x="10276" y="1070"/>
                  </a:lnTo>
                  <a:lnTo>
                    <a:pt x="8699" y="2433"/>
                  </a:lnTo>
                  <a:lnTo>
                    <a:pt x="6817" y="3579"/>
                  </a:lnTo>
                  <a:lnTo>
                    <a:pt x="6450" y="4572"/>
                  </a:lnTo>
                  <a:lnTo>
                    <a:pt x="3103" y="7476"/>
                  </a:lnTo>
                  <a:lnTo>
                    <a:pt x="0" y="9233"/>
                  </a:lnTo>
                  <a:lnTo>
                    <a:pt x="0" y="9310"/>
                  </a:lnTo>
                  <a:lnTo>
                    <a:pt x="0" y="9768"/>
                  </a:lnTo>
                  <a:lnTo>
                    <a:pt x="3042" y="8087"/>
                  </a:lnTo>
                  <a:lnTo>
                    <a:pt x="6023" y="5489"/>
                  </a:lnTo>
                  <a:lnTo>
                    <a:pt x="5169" y="8546"/>
                  </a:lnTo>
                  <a:lnTo>
                    <a:pt x="5352" y="12672"/>
                  </a:lnTo>
                  <a:lnTo>
                    <a:pt x="4680" y="14875"/>
                  </a:lnTo>
                  <a:lnTo>
                    <a:pt x="3347" y="18849"/>
                  </a:lnTo>
                  <a:lnTo>
                    <a:pt x="3286" y="21600"/>
                  </a:lnTo>
                  <a:lnTo>
                    <a:pt x="3347" y="21600"/>
                  </a:lnTo>
                  <a:lnTo>
                    <a:pt x="3530" y="19766"/>
                  </a:lnTo>
                  <a:lnTo>
                    <a:pt x="5901" y="13283"/>
                  </a:lnTo>
                  <a:lnTo>
                    <a:pt x="5901" y="13283"/>
                  </a:lnTo>
                  <a:close/>
                  <a:moveTo>
                    <a:pt x="5901" y="13283"/>
                  </a:moveTo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722840" y="7299360"/>
              <a:ext cx="8281800" cy="2128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505" y="6872"/>
                  </a:moveTo>
                  <a:lnTo>
                    <a:pt x="19657" y="6597"/>
                  </a:lnTo>
                  <a:lnTo>
                    <a:pt x="19551" y="6047"/>
                  </a:lnTo>
                  <a:lnTo>
                    <a:pt x="18809" y="5910"/>
                  </a:lnTo>
                  <a:lnTo>
                    <a:pt x="17778" y="4948"/>
                  </a:lnTo>
                  <a:lnTo>
                    <a:pt x="16583" y="5360"/>
                  </a:lnTo>
                  <a:lnTo>
                    <a:pt x="14916" y="6597"/>
                  </a:lnTo>
                  <a:lnTo>
                    <a:pt x="13721" y="7009"/>
                  </a:lnTo>
                  <a:lnTo>
                    <a:pt x="12655" y="7147"/>
                  </a:lnTo>
                  <a:lnTo>
                    <a:pt x="13968" y="5910"/>
                  </a:lnTo>
                  <a:lnTo>
                    <a:pt x="15452" y="3573"/>
                  </a:lnTo>
                  <a:lnTo>
                    <a:pt x="15452" y="3024"/>
                  </a:lnTo>
                  <a:lnTo>
                    <a:pt x="15699" y="1787"/>
                  </a:lnTo>
                  <a:lnTo>
                    <a:pt x="15941" y="550"/>
                  </a:lnTo>
                  <a:lnTo>
                    <a:pt x="15870" y="0"/>
                  </a:lnTo>
                  <a:lnTo>
                    <a:pt x="15558" y="275"/>
                  </a:lnTo>
                  <a:lnTo>
                    <a:pt x="15058" y="687"/>
                  </a:lnTo>
                  <a:lnTo>
                    <a:pt x="14810" y="1237"/>
                  </a:lnTo>
                  <a:lnTo>
                    <a:pt x="14280" y="1924"/>
                  </a:lnTo>
                  <a:lnTo>
                    <a:pt x="13685" y="1512"/>
                  </a:lnTo>
                  <a:lnTo>
                    <a:pt x="12902" y="2062"/>
                  </a:lnTo>
                  <a:lnTo>
                    <a:pt x="12372" y="2062"/>
                  </a:lnTo>
                  <a:lnTo>
                    <a:pt x="12054" y="2474"/>
                  </a:lnTo>
                  <a:lnTo>
                    <a:pt x="10924" y="5222"/>
                  </a:lnTo>
                  <a:lnTo>
                    <a:pt x="10429" y="6597"/>
                  </a:lnTo>
                  <a:lnTo>
                    <a:pt x="9369" y="7719"/>
                  </a:lnTo>
                  <a:lnTo>
                    <a:pt x="8627" y="8681"/>
                  </a:lnTo>
                  <a:lnTo>
                    <a:pt x="8592" y="8681"/>
                  </a:lnTo>
                  <a:lnTo>
                    <a:pt x="8556" y="8544"/>
                  </a:lnTo>
                  <a:lnTo>
                    <a:pt x="8344" y="8269"/>
                  </a:lnTo>
                  <a:lnTo>
                    <a:pt x="8132" y="7857"/>
                  </a:lnTo>
                  <a:lnTo>
                    <a:pt x="8026" y="7582"/>
                  </a:lnTo>
                  <a:lnTo>
                    <a:pt x="7991" y="7421"/>
                  </a:lnTo>
                  <a:lnTo>
                    <a:pt x="7915" y="7147"/>
                  </a:lnTo>
                  <a:lnTo>
                    <a:pt x="7773" y="6872"/>
                  </a:lnTo>
                  <a:lnTo>
                    <a:pt x="7597" y="6597"/>
                  </a:lnTo>
                  <a:lnTo>
                    <a:pt x="7420" y="6185"/>
                  </a:lnTo>
                  <a:lnTo>
                    <a:pt x="7243" y="5772"/>
                  </a:lnTo>
                  <a:lnTo>
                    <a:pt x="6990" y="5200"/>
                  </a:lnTo>
                  <a:lnTo>
                    <a:pt x="6590" y="5200"/>
                  </a:lnTo>
                  <a:lnTo>
                    <a:pt x="7991" y="9094"/>
                  </a:lnTo>
                  <a:lnTo>
                    <a:pt x="7773" y="10033"/>
                  </a:lnTo>
                  <a:lnTo>
                    <a:pt x="6684" y="11957"/>
                  </a:lnTo>
                  <a:lnTo>
                    <a:pt x="5653" y="12781"/>
                  </a:lnTo>
                  <a:lnTo>
                    <a:pt x="4028" y="13743"/>
                  </a:lnTo>
                  <a:lnTo>
                    <a:pt x="2791" y="14431"/>
                  </a:lnTo>
                  <a:lnTo>
                    <a:pt x="2297" y="15667"/>
                  </a:lnTo>
                  <a:lnTo>
                    <a:pt x="777" y="17889"/>
                  </a:lnTo>
                  <a:lnTo>
                    <a:pt x="0" y="18989"/>
                  </a:lnTo>
                  <a:lnTo>
                    <a:pt x="1378" y="19401"/>
                  </a:lnTo>
                  <a:lnTo>
                    <a:pt x="2933" y="18989"/>
                  </a:lnTo>
                  <a:lnTo>
                    <a:pt x="5447" y="16927"/>
                  </a:lnTo>
                  <a:lnTo>
                    <a:pt x="4947" y="18714"/>
                  </a:lnTo>
                  <a:lnTo>
                    <a:pt x="3751" y="21188"/>
                  </a:lnTo>
                  <a:lnTo>
                    <a:pt x="3610" y="21600"/>
                  </a:lnTo>
                  <a:lnTo>
                    <a:pt x="8274" y="21600"/>
                  </a:lnTo>
                  <a:lnTo>
                    <a:pt x="8309" y="21188"/>
                  </a:lnTo>
                  <a:lnTo>
                    <a:pt x="8521" y="21600"/>
                  </a:lnTo>
                  <a:lnTo>
                    <a:pt x="17219" y="21600"/>
                  </a:lnTo>
                  <a:lnTo>
                    <a:pt x="17007" y="19676"/>
                  </a:lnTo>
                  <a:lnTo>
                    <a:pt x="15976" y="17752"/>
                  </a:lnTo>
                  <a:lnTo>
                    <a:pt x="15205" y="16217"/>
                  </a:lnTo>
                  <a:lnTo>
                    <a:pt x="13756" y="14568"/>
                  </a:lnTo>
                  <a:lnTo>
                    <a:pt x="13538" y="13881"/>
                  </a:lnTo>
                  <a:lnTo>
                    <a:pt x="14775" y="13331"/>
                  </a:lnTo>
                  <a:lnTo>
                    <a:pt x="15346" y="13469"/>
                  </a:lnTo>
                  <a:lnTo>
                    <a:pt x="16330" y="13469"/>
                  </a:lnTo>
                  <a:lnTo>
                    <a:pt x="17672" y="13331"/>
                  </a:lnTo>
                  <a:lnTo>
                    <a:pt x="19191" y="11819"/>
                  </a:lnTo>
                  <a:lnTo>
                    <a:pt x="20328" y="10033"/>
                  </a:lnTo>
                  <a:lnTo>
                    <a:pt x="21600" y="8956"/>
                  </a:lnTo>
                  <a:lnTo>
                    <a:pt x="21600" y="7147"/>
                  </a:lnTo>
                  <a:lnTo>
                    <a:pt x="20505" y="6872"/>
                  </a:lnTo>
                  <a:lnTo>
                    <a:pt x="20505" y="6872"/>
                  </a:lnTo>
                  <a:close/>
                  <a:moveTo>
                    <a:pt x="20505" y="6872"/>
                  </a:moveTo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0" y="1181160"/>
              <a:ext cx="2195640" cy="2698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200" y="21491"/>
                  </a:moveTo>
                  <a:lnTo>
                    <a:pt x="10923" y="21600"/>
                  </a:lnTo>
                  <a:lnTo>
                    <a:pt x="12929" y="20839"/>
                  </a:lnTo>
                  <a:lnTo>
                    <a:pt x="18123" y="19661"/>
                  </a:lnTo>
                  <a:lnTo>
                    <a:pt x="20798" y="19117"/>
                  </a:lnTo>
                  <a:lnTo>
                    <a:pt x="16919" y="17921"/>
                  </a:lnTo>
                  <a:lnTo>
                    <a:pt x="12394" y="17269"/>
                  </a:lnTo>
                  <a:lnTo>
                    <a:pt x="4391" y="17595"/>
                  </a:lnTo>
                  <a:lnTo>
                    <a:pt x="6665" y="16182"/>
                  </a:lnTo>
                  <a:lnTo>
                    <a:pt x="11056" y="14551"/>
                  </a:lnTo>
                  <a:lnTo>
                    <a:pt x="15470" y="12159"/>
                  </a:lnTo>
                  <a:lnTo>
                    <a:pt x="15604" y="12159"/>
                  </a:lnTo>
                  <a:lnTo>
                    <a:pt x="15871" y="12050"/>
                  </a:lnTo>
                  <a:lnTo>
                    <a:pt x="16785" y="11724"/>
                  </a:lnTo>
                  <a:lnTo>
                    <a:pt x="17320" y="11615"/>
                  </a:lnTo>
                  <a:lnTo>
                    <a:pt x="17588" y="11398"/>
                  </a:lnTo>
                  <a:lnTo>
                    <a:pt x="17721" y="11181"/>
                  </a:lnTo>
                  <a:lnTo>
                    <a:pt x="17588" y="11072"/>
                  </a:lnTo>
                  <a:lnTo>
                    <a:pt x="17454" y="10854"/>
                  </a:lnTo>
                  <a:lnTo>
                    <a:pt x="17454" y="10419"/>
                  </a:lnTo>
                  <a:lnTo>
                    <a:pt x="17721" y="9876"/>
                  </a:lnTo>
                  <a:lnTo>
                    <a:pt x="17989" y="9332"/>
                  </a:lnTo>
                  <a:lnTo>
                    <a:pt x="18390" y="8789"/>
                  </a:lnTo>
                  <a:lnTo>
                    <a:pt x="18658" y="8245"/>
                  </a:lnTo>
                  <a:lnTo>
                    <a:pt x="18791" y="7919"/>
                  </a:lnTo>
                  <a:lnTo>
                    <a:pt x="18925" y="7810"/>
                  </a:lnTo>
                  <a:lnTo>
                    <a:pt x="18925" y="6288"/>
                  </a:lnTo>
                  <a:lnTo>
                    <a:pt x="18925" y="6179"/>
                  </a:lnTo>
                  <a:lnTo>
                    <a:pt x="19059" y="6070"/>
                  </a:lnTo>
                  <a:lnTo>
                    <a:pt x="19460" y="5527"/>
                  </a:lnTo>
                  <a:lnTo>
                    <a:pt x="19728" y="4874"/>
                  </a:lnTo>
                  <a:lnTo>
                    <a:pt x="19995" y="4331"/>
                  </a:lnTo>
                  <a:lnTo>
                    <a:pt x="20129" y="4113"/>
                  </a:lnTo>
                  <a:lnTo>
                    <a:pt x="20263" y="3896"/>
                  </a:lnTo>
                  <a:lnTo>
                    <a:pt x="20664" y="3135"/>
                  </a:lnTo>
                  <a:lnTo>
                    <a:pt x="21065" y="2483"/>
                  </a:lnTo>
                  <a:lnTo>
                    <a:pt x="21199" y="2265"/>
                  </a:lnTo>
                  <a:lnTo>
                    <a:pt x="21199" y="2156"/>
                  </a:lnTo>
                  <a:lnTo>
                    <a:pt x="21600" y="0"/>
                  </a:lnTo>
                  <a:lnTo>
                    <a:pt x="21065" y="852"/>
                  </a:lnTo>
                  <a:lnTo>
                    <a:pt x="17454" y="2048"/>
                  </a:lnTo>
                  <a:lnTo>
                    <a:pt x="15737" y="2917"/>
                  </a:lnTo>
                  <a:lnTo>
                    <a:pt x="10254" y="4222"/>
                  </a:lnTo>
                  <a:lnTo>
                    <a:pt x="6264" y="5201"/>
                  </a:lnTo>
                  <a:lnTo>
                    <a:pt x="3856" y="5309"/>
                  </a:lnTo>
                  <a:lnTo>
                    <a:pt x="267" y="8789"/>
                  </a:lnTo>
                  <a:lnTo>
                    <a:pt x="0" y="9223"/>
                  </a:lnTo>
                  <a:lnTo>
                    <a:pt x="0" y="21491"/>
                  </a:lnTo>
                  <a:lnTo>
                    <a:pt x="2140" y="21383"/>
                  </a:lnTo>
                  <a:lnTo>
                    <a:pt x="7200" y="21491"/>
                  </a:lnTo>
                  <a:lnTo>
                    <a:pt x="7200" y="21491"/>
                  </a:lnTo>
                  <a:close/>
                  <a:moveTo>
                    <a:pt x="7200" y="21491"/>
                  </a:moveTo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197840" y="1440"/>
              <a:ext cx="5802120" cy="511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354" y="4413"/>
                  </a:moveTo>
                  <a:lnTo>
                    <a:pt x="7220" y="5834"/>
                  </a:lnTo>
                  <a:lnTo>
                    <a:pt x="7875" y="6863"/>
                  </a:lnTo>
                  <a:lnTo>
                    <a:pt x="9136" y="8131"/>
                  </a:lnTo>
                  <a:lnTo>
                    <a:pt x="9287" y="8646"/>
                  </a:lnTo>
                  <a:lnTo>
                    <a:pt x="8077" y="8703"/>
                  </a:lnTo>
                  <a:lnTo>
                    <a:pt x="7522" y="8589"/>
                  </a:lnTo>
                  <a:lnTo>
                    <a:pt x="6606" y="8417"/>
                  </a:lnTo>
                  <a:lnTo>
                    <a:pt x="5354" y="8188"/>
                  </a:lnTo>
                  <a:lnTo>
                    <a:pt x="3782" y="8874"/>
                  </a:lnTo>
                  <a:lnTo>
                    <a:pt x="2572" y="9732"/>
                  </a:lnTo>
                  <a:lnTo>
                    <a:pt x="1261" y="10247"/>
                  </a:lnTo>
                  <a:lnTo>
                    <a:pt x="0" y="10991"/>
                  </a:lnTo>
                  <a:lnTo>
                    <a:pt x="656" y="11105"/>
                  </a:lnTo>
                  <a:lnTo>
                    <a:pt x="2219" y="11629"/>
                  </a:lnTo>
                  <a:lnTo>
                    <a:pt x="3034" y="11972"/>
                  </a:lnTo>
                  <a:lnTo>
                    <a:pt x="3085" y="12373"/>
                  </a:lnTo>
                  <a:lnTo>
                    <a:pt x="3732" y="12544"/>
                  </a:lnTo>
                  <a:lnTo>
                    <a:pt x="4690" y="13345"/>
                  </a:lnTo>
                  <a:lnTo>
                    <a:pt x="5858" y="13345"/>
                  </a:lnTo>
                  <a:lnTo>
                    <a:pt x="7522" y="12830"/>
                  </a:lnTo>
                  <a:lnTo>
                    <a:pt x="8623" y="12830"/>
                  </a:lnTo>
                  <a:lnTo>
                    <a:pt x="9640" y="12945"/>
                  </a:lnTo>
                  <a:lnTo>
                    <a:pt x="8329" y="13459"/>
                  </a:lnTo>
                  <a:lnTo>
                    <a:pt x="6757" y="14661"/>
                  </a:lnTo>
                  <a:lnTo>
                    <a:pt x="6757" y="15004"/>
                  </a:lnTo>
                  <a:lnTo>
                    <a:pt x="6404" y="15680"/>
                  </a:lnTo>
                  <a:lnTo>
                    <a:pt x="6102" y="16376"/>
                  </a:lnTo>
                  <a:lnTo>
                    <a:pt x="6152" y="16720"/>
                  </a:lnTo>
                  <a:lnTo>
                    <a:pt x="6455" y="16605"/>
                  </a:lnTo>
                  <a:lnTo>
                    <a:pt x="6967" y="16491"/>
                  </a:lnTo>
                  <a:lnTo>
                    <a:pt x="7270" y="16138"/>
                  </a:lnTo>
                  <a:lnTo>
                    <a:pt x="7774" y="15852"/>
                  </a:lnTo>
                  <a:lnTo>
                    <a:pt x="8329" y="16195"/>
                  </a:lnTo>
                  <a:lnTo>
                    <a:pt x="9136" y="15966"/>
                  </a:lnTo>
                  <a:lnTo>
                    <a:pt x="9539" y="15509"/>
                  </a:lnTo>
                  <a:lnTo>
                    <a:pt x="9640" y="16081"/>
                  </a:lnTo>
                  <a:lnTo>
                    <a:pt x="9943" y="15909"/>
                  </a:lnTo>
                  <a:lnTo>
                    <a:pt x="11203" y="14432"/>
                  </a:lnTo>
                  <a:lnTo>
                    <a:pt x="11758" y="13688"/>
                  </a:lnTo>
                  <a:lnTo>
                    <a:pt x="12826" y="13174"/>
                  </a:lnTo>
                  <a:lnTo>
                    <a:pt x="13574" y="12716"/>
                  </a:lnTo>
                  <a:lnTo>
                    <a:pt x="13674" y="12830"/>
                  </a:lnTo>
                  <a:lnTo>
                    <a:pt x="13826" y="13059"/>
                  </a:lnTo>
                  <a:lnTo>
                    <a:pt x="14027" y="13345"/>
                  </a:lnTo>
                  <a:lnTo>
                    <a:pt x="14128" y="13631"/>
                  </a:lnTo>
                  <a:lnTo>
                    <a:pt x="14179" y="13803"/>
                  </a:lnTo>
                  <a:lnTo>
                    <a:pt x="14280" y="13974"/>
                  </a:lnTo>
                  <a:lnTo>
                    <a:pt x="14532" y="14489"/>
                  </a:lnTo>
                  <a:lnTo>
                    <a:pt x="14683" y="14775"/>
                  </a:lnTo>
                  <a:lnTo>
                    <a:pt x="14843" y="15004"/>
                  </a:lnTo>
                  <a:lnTo>
                    <a:pt x="14893" y="15118"/>
                  </a:lnTo>
                  <a:lnTo>
                    <a:pt x="14944" y="15175"/>
                  </a:lnTo>
                  <a:lnTo>
                    <a:pt x="17852" y="21428"/>
                  </a:lnTo>
                  <a:lnTo>
                    <a:pt x="18616" y="21600"/>
                  </a:lnTo>
                  <a:lnTo>
                    <a:pt x="14229" y="12602"/>
                  </a:lnTo>
                  <a:lnTo>
                    <a:pt x="14481" y="12030"/>
                  </a:lnTo>
                  <a:lnTo>
                    <a:pt x="15641" y="11105"/>
                  </a:lnTo>
                  <a:lnTo>
                    <a:pt x="16708" y="10762"/>
                  </a:lnTo>
                  <a:lnTo>
                    <a:pt x="18263" y="10476"/>
                  </a:lnTo>
                  <a:lnTo>
                    <a:pt x="19482" y="10247"/>
                  </a:lnTo>
                  <a:lnTo>
                    <a:pt x="20087" y="9618"/>
                  </a:lnTo>
                  <a:lnTo>
                    <a:pt x="21600" y="8531"/>
                  </a:lnTo>
                  <a:lnTo>
                    <a:pt x="21600" y="7673"/>
                  </a:lnTo>
                  <a:lnTo>
                    <a:pt x="21146" y="7502"/>
                  </a:lnTo>
                  <a:lnTo>
                    <a:pt x="19684" y="7445"/>
                  </a:lnTo>
                  <a:lnTo>
                    <a:pt x="17162" y="8303"/>
                  </a:lnTo>
                  <a:lnTo>
                    <a:pt x="17767" y="7273"/>
                  </a:lnTo>
                  <a:lnTo>
                    <a:pt x="19028" y="5948"/>
                  </a:lnTo>
                  <a:lnTo>
                    <a:pt x="20238" y="4127"/>
                  </a:lnTo>
                  <a:lnTo>
                    <a:pt x="20289" y="4127"/>
                  </a:lnTo>
                  <a:lnTo>
                    <a:pt x="20390" y="4013"/>
                  </a:lnTo>
                  <a:lnTo>
                    <a:pt x="20642" y="3784"/>
                  </a:lnTo>
                  <a:lnTo>
                    <a:pt x="20793" y="3613"/>
                  </a:lnTo>
                  <a:lnTo>
                    <a:pt x="20894" y="3498"/>
                  </a:lnTo>
                  <a:lnTo>
                    <a:pt x="20944" y="3384"/>
                  </a:lnTo>
                  <a:lnTo>
                    <a:pt x="20894" y="3327"/>
                  </a:lnTo>
                  <a:lnTo>
                    <a:pt x="20793" y="3212"/>
                  </a:lnTo>
                  <a:lnTo>
                    <a:pt x="20793" y="2926"/>
                  </a:lnTo>
                  <a:lnTo>
                    <a:pt x="20793" y="2583"/>
                  </a:lnTo>
                  <a:lnTo>
                    <a:pt x="20844" y="2173"/>
                  </a:lnTo>
                  <a:lnTo>
                    <a:pt x="20944" y="1830"/>
                  </a:lnTo>
                  <a:lnTo>
                    <a:pt x="20995" y="1487"/>
                  </a:lnTo>
                  <a:lnTo>
                    <a:pt x="21045" y="1258"/>
                  </a:lnTo>
                  <a:lnTo>
                    <a:pt x="21045" y="1201"/>
                  </a:lnTo>
                  <a:lnTo>
                    <a:pt x="20944" y="343"/>
                  </a:lnTo>
                  <a:lnTo>
                    <a:pt x="20944" y="343"/>
                  </a:lnTo>
                  <a:lnTo>
                    <a:pt x="20944" y="229"/>
                  </a:lnTo>
                  <a:lnTo>
                    <a:pt x="20995" y="0"/>
                  </a:lnTo>
                  <a:lnTo>
                    <a:pt x="17667" y="0"/>
                  </a:lnTo>
                  <a:lnTo>
                    <a:pt x="16860" y="572"/>
                  </a:lnTo>
                  <a:lnTo>
                    <a:pt x="16045" y="858"/>
                  </a:lnTo>
                  <a:lnTo>
                    <a:pt x="15196" y="3212"/>
                  </a:lnTo>
                  <a:lnTo>
                    <a:pt x="14683" y="5100"/>
                  </a:lnTo>
                  <a:lnTo>
                    <a:pt x="14179" y="5605"/>
                  </a:lnTo>
                  <a:lnTo>
                    <a:pt x="14380" y="4471"/>
                  </a:lnTo>
                  <a:lnTo>
                    <a:pt x="14179" y="3270"/>
                  </a:lnTo>
                  <a:lnTo>
                    <a:pt x="13725" y="1373"/>
                  </a:lnTo>
                  <a:lnTo>
                    <a:pt x="13321" y="114"/>
                  </a:lnTo>
                  <a:lnTo>
                    <a:pt x="13271" y="0"/>
                  </a:lnTo>
                  <a:lnTo>
                    <a:pt x="6606" y="0"/>
                  </a:lnTo>
                  <a:lnTo>
                    <a:pt x="6203" y="1773"/>
                  </a:lnTo>
                  <a:lnTo>
                    <a:pt x="6354" y="4413"/>
                  </a:lnTo>
                  <a:lnTo>
                    <a:pt x="6354" y="4413"/>
                  </a:lnTo>
                  <a:close/>
                  <a:moveTo>
                    <a:pt x="6354" y="4413"/>
                  </a:moveTo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958160" y="1440"/>
              <a:ext cx="4932360" cy="340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264" y="11008"/>
                  </a:moveTo>
                  <a:lnTo>
                    <a:pt x="11813" y="17725"/>
                  </a:lnTo>
                  <a:lnTo>
                    <a:pt x="9490" y="17122"/>
                  </a:lnTo>
                  <a:lnTo>
                    <a:pt x="7177" y="16175"/>
                  </a:lnTo>
                  <a:lnTo>
                    <a:pt x="4388" y="15917"/>
                  </a:lnTo>
                  <a:lnTo>
                    <a:pt x="0" y="15486"/>
                  </a:lnTo>
                  <a:lnTo>
                    <a:pt x="298" y="16003"/>
                  </a:lnTo>
                  <a:lnTo>
                    <a:pt x="4924" y="16261"/>
                  </a:lnTo>
                  <a:lnTo>
                    <a:pt x="7713" y="17036"/>
                  </a:lnTo>
                  <a:lnTo>
                    <a:pt x="11217" y="18672"/>
                  </a:lnTo>
                  <a:lnTo>
                    <a:pt x="10621" y="18930"/>
                  </a:lnTo>
                  <a:lnTo>
                    <a:pt x="7058" y="21600"/>
                  </a:lnTo>
                  <a:lnTo>
                    <a:pt x="7594" y="21256"/>
                  </a:lnTo>
                  <a:lnTo>
                    <a:pt x="8547" y="20653"/>
                  </a:lnTo>
                  <a:lnTo>
                    <a:pt x="10145" y="19447"/>
                  </a:lnTo>
                  <a:lnTo>
                    <a:pt x="12051" y="18586"/>
                  </a:lnTo>
                  <a:lnTo>
                    <a:pt x="12577" y="17553"/>
                  </a:lnTo>
                  <a:lnTo>
                    <a:pt x="16200" y="14969"/>
                  </a:lnTo>
                  <a:lnTo>
                    <a:pt x="19168" y="13678"/>
                  </a:lnTo>
                  <a:lnTo>
                    <a:pt x="21600" y="11783"/>
                  </a:lnTo>
                  <a:lnTo>
                    <a:pt x="19466" y="13075"/>
                  </a:lnTo>
                  <a:lnTo>
                    <a:pt x="16438" y="14194"/>
                  </a:lnTo>
                  <a:lnTo>
                    <a:pt x="13292" y="16519"/>
                  </a:lnTo>
                  <a:lnTo>
                    <a:pt x="14900" y="12989"/>
                  </a:lnTo>
                  <a:lnTo>
                    <a:pt x="16081" y="7822"/>
                  </a:lnTo>
                  <a:lnTo>
                    <a:pt x="17272" y="5339"/>
                  </a:lnTo>
                  <a:lnTo>
                    <a:pt x="19644" y="861"/>
                  </a:lnTo>
                  <a:lnTo>
                    <a:pt x="19883" y="0"/>
                  </a:lnTo>
                  <a:lnTo>
                    <a:pt x="19585" y="0"/>
                  </a:lnTo>
                  <a:lnTo>
                    <a:pt x="15843" y="6889"/>
                  </a:lnTo>
                  <a:lnTo>
                    <a:pt x="14661" y="12730"/>
                  </a:lnTo>
                  <a:lnTo>
                    <a:pt x="12458" y="16864"/>
                  </a:lnTo>
                  <a:lnTo>
                    <a:pt x="11217" y="12989"/>
                  </a:lnTo>
                  <a:lnTo>
                    <a:pt x="10026" y="7750"/>
                  </a:lnTo>
                  <a:lnTo>
                    <a:pt x="8785" y="3186"/>
                  </a:lnTo>
                  <a:lnTo>
                    <a:pt x="7832" y="0"/>
                  </a:lnTo>
                  <a:lnTo>
                    <a:pt x="7475" y="0"/>
                  </a:lnTo>
                  <a:lnTo>
                    <a:pt x="8964" y="5081"/>
                  </a:lnTo>
                  <a:lnTo>
                    <a:pt x="10264" y="11008"/>
                  </a:lnTo>
                  <a:lnTo>
                    <a:pt x="10264" y="11008"/>
                  </a:lnTo>
                  <a:close/>
                  <a:moveTo>
                    <a:pt x="10264" y="11008"/>
                  </a:moveTo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0" y="1465200"/>
              <a:ext cx="1841400" cy="1819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277" y="15152"/>
                  </a:moveTo>
                  <a:lnTo>
                    <a:pt x="8741" y="11767"/>
                  </a:lnTo>
                  <a:lnTo>
                    <a:pt x="17163" y="5803"/>
                  </a:lnTo>
                  <a:lnTo>
                    <a:pt x="21600" y="0"/>
                  </a:lnTo>
                  <a:lnTo>
                    <a:pt x="17960" y="4030"/>
                  </a:lnTo>
                  <a:lnTo>
                    <a:pt x="3826" y="13540"/>
                  </a:lnTo>
                  <a:lnTo>
                    <a:pt x="0" y="19666"/>
                  </a:lnTo>
                  <a:lnTo>
                    <a:pt x="0" y="21600"/>
                  </a:lnTo>
                  <a:lnTo>
                    <a:pt x="4277" y="15152"/>
                  </a:lnTo>
                  <a:lnTo>
                    <a:pt x="4277" y="15152"/>
                  </a:lnTo>
                  <a:close/>
                  <a:moveTo>
                    <a:pt x="4277" y="15152"/>
                  </a:moveTo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0" y="3487680"/>
              <a:ext cx="1719360" cy="241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091" y="13323"/>
                  </a:moveTo>
                  <a:lnTo>
                    <a:pt x="21600" y="0"/>
                  </a:lnTo>
                  <a:lnTo>
                    <a:pt x="14115" y="7267"/>
                  </a:lnTo>
                  <a:lnTo>
                    <a:pt x="3927" y="9690"/>
                  </a:lnTo>
                  <a:lnTo>
                    <a:pt x="0" y="15746"/>
                  </a:lnTo>
                  <a:lnTo>
                    <a:pt x="0" y="21600"/>
                  </a:lnTo>
                  <a:lnTo>
                    <a:pt x="2732" y="17966"/>
                  </a:lnTo>
                  <a:lnTo>
                    <a:pt x="13091" y="13323"/>
                  </a:lnTo>
                  <a:lnTo>
                    <a:pt x="13091" y="13323"/>
                  </a:lnTo>
                  <a:close/>
                  <a:moveTo>
                    <a:pt x="13091" y="13323"/>
                  </a:moveTo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24320" y="7745400"/>
              <a:ext cx="7183440" cy="1682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454" y="6948"/>
                  </a:moveTo>
                  <a:lnTo>
                    <a:pt x="11819" y="6774"/>
                  </a:lnTo>
                  <a:lnTo>
                    <a:pt x="14225" y="7297"/>
                  </a:lnTo>
                  <a:lnTo>
                    <a:pt x="17074" y="6774"/>
                  </a:lnTo>
                  <a:lnTo>
                    <a:pt x="21600" y="5931"/>
                  </a:lnTo>
                  <a:lnTo>
                    <a:pt x="21232" y="5407"/>
                  </a:lnTo>
                  <a:lnTo>
                    <a:pt x="16508" y="6425"/>
                  </a:lnTo>
                  <a:lnTo>
                    <a:pt x="13653" y="6425"/>
                  </a:lnTo>
                  <a:lnTo>
                    <a:pt x="9945" y="5407"/>
                  </a:lnTo>
                  <a:lnTo>
                    <a:pt x="10517" y="4884"/>
                  </a:lnTo>
                  <a:lnTo>
                    <a:pt x="13898" y="0"/>
                  </a:lnTo>
                  <a:lnTo>
                    <a:pt x="13366" y="698"/>
                  </a:lnTo>
                  <a:lnTo>
                    <a:pt x="12514" y="1919"/>
                  </a:lnTo>
                  <a:lnTo>
                    <a:pt x="10919" y="4012"/>
                  </a:lnTo>
                  <a:lnTo>
                    <a:pt x="9127" y="5756"/>
                  </a:lnTo>
                  <a:lnTo>
                    <a:pt x="8643" y="7297"/>
                  </a:lnTo>
                  <a:lnTo>
                    <a:pt x="5214" y="12006"/>
                  </a:lnTo>
                  <a:lnTo>
                    <a:pt x="2283" y="14623"/>
                  </a:lnTo>
                  <a:lnTo>
                    <a:pt x="0" y="17937"/>
                  </a:lnTo>
                  <a:lnTo>
                    <a:pt x="2038" y="15669"/>
                  </a:lnTo>
                  <a:lnTo>
                    <a:pt x="5010" y="13053"/>
                  </a:lnTo>
                  <a:lnTo>
                    <a:pt x="8029" y="9041"/>
                  </a:lnTo>
                  <a:lnTo>
                    <a:pt x="6687" y="14274"/>
                  </a:lnTo>
                  <a:lnTo>
                    <a:pt x="5909" y="21600"/>
                  </a:lnTo>
                  <a:lnTo>
                    <a:pt x="5869" y="21600"/>
                  </a:lnTo>
                  <a:lnTo>
                    <a:pt x="6359" y="21600"/>
                  </a:lnTo>
                  <a:lnTo>
                    <a:pt x="6966" y="14448"/>
                  </a:lnTo>
                  <a:lnTo>
                    <a:pt x="8840" y="8169"/>
                  </a:lnTo>
                  <a:lnTo>
                    <a:pt x="10435" y="13053"/>
                  </a:lnTo>
                  <a:lnTo>
                    <a:pt x="12064" y="19681"/>
                  </a:lnTo>
                  <a:lnTo>
                    <a:pt x="12637" y="21600"/>
                  </a:lnTo>
                  <a:lnTo>
                    <a:pt x="13080" y="21600"/>
                  </a:lnTo>
                  <a:lnTo>
                    <a:pt x="11533" y="15321"/>
                  </a:lnTo>
                  <a:lnTo>
                    <a:pt x="9454" y="6948"/>
                  </a:lnTo>
                  <a:lnTo>
                    <a:pt x="9454" y="6948"/>
                  </a:lnTo>
                  <a:close/>
                  <a:moveTo>
                    <a:pt x="9454" y="6948"/>
                  </a:moveTo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1640" y="285840"/>
              <a:ext cx="1800" cy="32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60440" y="295200"/>
              <a:ext cx="1440" cy="180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0" y="9105840"/>
              <a:ext cx="13004640" cy="647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0" y="9105840"/>
              <a:ext cx="13004640" cy="762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0" y="0"/>
              <a:ext cx="13004640" cy="647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The Myth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47680" y="514440"/>
              <a:ext cx="7197840" cy="4573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861" y="15250"/>
                  </a:moveTo>
                  <a:lnTo>
                    <a:pt x="5901" y="15186"/>
                  </a:lnTo>
                  <a:lnTo>
                    <a:pt x="6023" y="15058"/>
                  </a:lnTo>
                  <a:lnTo>
                    <a:pt x="6145" y="14866"/>
                  </a:lnTo>
                  <a:lnTo>
                    <a:pt x="6349" y="14610"/>
                  </a:lnTo>
                  <a:lnTo>
                    <a:pt x="6714" y="14087"/>
                  </a:lnTo>
                  <a:lnTo>
                    <a:pt x="6877" y="13970"/>
                  </a:lnTo>
                  <a:lnTo>
                    <a:pt x="6999" y="13842"/>
                  </a:lnTo>
                  <a:lnTo>
                    <a:pt x="7162" y="13649"/>
                  </a:lnTo>
                  <a:lnTo>
                    <a:pt x="7358" y="13329"/>
                  </a:lnTo>
                  <a:lnTo>
                    <a:pt x="7527" y="13073"/>
                  </a:lnTo>
                  <a:lnTo>
                    <a:pt x="7609" y="13009"/>
                  </a:lnTo>
                  <a:lnTo>
                    <a:pt x="7609" y="12945"/>
                  </a:lnTo>
                  <a:lnTo>
                    <a:pt x="7162" y="12305"/>
                  </a:lnTo>
                  <a:lnTo>
                    <a:pt x="6633" y="11216"/>
                  </a:lnTo>
                  <a:lnTo>
                    <a:pt x="5942" y="10896"/>
                  </a:lnTo>
                  <a:lnTo>
                    <a:pt x="4641" y="9936"/>
                  </a:lnTo>
                  <a:lnTo>
                    <a:pt x="4438" y="9679"/>
                  </a:lnTo>
                  <a:lnTo>
                    <a:pt x="4885" y="9349"/>
                  </a:lnTo>
                  <a:lnTo>
                    <a:pt x="4438" y="9028"/>
                  </a:lnTo>
                  <a:lnTo>
                    <a:pt x="4147" y="8260"/>
                  </a:lnTo>
                  <a:lnTo>
                    <a:pt x="4357" y="7556"/>
                  </a:lnTo>
                  <a:lnTo>
                    <a:pt x="4065" y="7043"/>
                  </a:lnTo>
                  <a:lnTo>
                    <a:pt x="3740" y="6851"/>
                  </a:lnTo>
                  <a:lnTo>
                    <a:pt x="3577" y="6339"/>
                  </a:lnTo>
                  <a:lnTo>
                    <a:pt x="3455" y="6083"/>
                  </a:lnTo>
                  <a:lnTo>
                    <a:pt x="3740" y="5891"/>
                  </a:lnTo>
                  <a:lnTo>
                    <a:pt x="4316" y="6019"/>
                  </a:lnTo>
                  <a:lnTo>
                    <a:pt x="4885" y="6147"/>
                  </a:lnTo>
                  <a:lnTo>
                    <a:pt x="5170" y="6083"/>
                  </a:lnTo>
                  <a:lnTo>
                    <a:pt x="6308" y="7428"/>
                  </a:lnTo>
                  <a:lnTo>
                    <a:pt x="7392" y="9071"/>
                  </a:lnTo>
                  <a:lnTo>
                    <a:pt x="7270" y="7310"/>
                  </a:lnTo>
                  <a:lnTo>
                    <a:pt x="6836" y="6040"/>
                  </a:lnTo>
                  <a:lnTo>
                    <a:pt x="6403" y="4194"/>
                  </a:lnTo>
                  <a:lnTo>
                    <a:pt x="7141" y="2828"/>
                  </a:lnTo>
                  <a:lnTo>
                    <a:pt x="7704" y="480"/>
                  </a:lnTo>
                  <a:lnTo>
                    <a:pt x="8462" y="0"/>
                  </a:lnTo>
                  <a:lnTo>
                    <a:pt x="9065" y="1462"/>
                  </a:lnTo>
                  <a:lnTo>
                    <a:pt x="9933" y="3116"/>
                  </a:lnTo>
                  <a:lnTo>
                    <a:pt x="10177" y="4386"/>
                  </a:lnTo>
                  <a:lnTo>
                    <a:pt x="9994" y="5848"/>
                  </a:lnTo>
                  <a:lnTo>
                    <a:pt x="9126" y="8196"/>
                  </a:lnTo>
                  <a:lnTo>
                    <a:pt x="10617" y="6723"/>
                  </a:lnTo>
                  <a:lnTo>
                    <a:pt x="11430" y="4930"/>
                  </a:lnTo>
                  <a:lnTo>
                    <a:pt x="12162" y="3895"/>
                  </a:lnTo>
                  <a:lnTo>
                    <a:pt x="13144" y="2551"/>
                  </a:lnTo>
                  <a:lnTo>
                    <a:pt x="15211" y="1601"/>
                  </a:lnTo>
                  <a:lnTo>
                    <a:pt x="16925" y="1473"/>
                  </a:lnTo>
                  <a:lnTo>
                    <a:pt x="17738" y="1921"/>
                  </a:lnTo>
                  <a:lnTo>
                    <a:pt x="19073" y="1473"/>
                  </a:lnTo>
                  <a:lnTo>
                    <a:pt x="20665" y="1601"/>
                  </a:lnTo>
                  <a:lnTo>
                    <a:pt x="21519" y="1793"/>
                  </a:lnTo>
                  <a:lnTo>
                    <a:pt x="21275" y="2241"/>
                  </a:lnTo>
                  <a:lnTo>
                    <a:pt x="21112" y="2049"/>
                  </a:lnTo>
                  <a:lnTo>
                    <a:pt x="20258" y="2241"/>
                  </a:lnTo>
                  <a:lnTo>
                    <a:pt x="19689" y="2807"/>
                  </a:lnTo>
                  <a:lnTo>
                    <a:pt x="19202" y="4023"/>
                  </a:lnTo>
                  <a:lnTo>
                    <a:pt x="18754" y="5699"/>
                  </a:lnTo>
                  <a:lnTo>
                    <a:pt x="18307" y="6915"/>
                  </a:lnTo>
                  <a:lnTo>
                    <a:pt x="18551" y="7748"/>
                  </a:lnTo>
                  <a:lnTo>
                    <a:pt x="17494" y="8836"/>
                  </a:lnTo>
                  <a:lnTo>
                    <a:pt x="16559" y="9743"/>
                  </a:lnTo>
                  <a:lnTo>
                    <a:pt x="15136" y="10768"/>
                  </a:lnTo>
                  <a:lnTo>
                    <a:pt x="14201" y="11344"/>
                  </a:lnTo>
                  <a:lnTo>
                    <a:pt x="13300" y="11472"/>
                  </a:lnTo>
                  <a:lnTo>
                    <a:pt x="13788" y="11921"/>
                  </a:lnTo>
                  <a:lnTo>
                    <a:pt x="15292" y="11857"/>
                  </a:lnTo>
                  <a:lnTo>
                    <a:pt x="17243" y="12113"/>
                  </a:lnTo>
                  <a:lnTo>
                    <a:pt x="17616" y="12881"/>
                  </a:lnTo>
                  <a:lnTo>
                    <a:pt x="18470" y="13906"/>
                  </a:lnTo>
                  <a:lnTo>
                    <a:pt x="19608" y="15378"/>
                  </a:lnTo>
                  <a:lnTo>
                    <a:pt x="20218" y="15698"/>
                  </a:lnTo>
                  <a:lnTo>
                    <a:pt x="21153" y="16595"/>
                  </a:lnTo>
                  <a:lnTo>
                    <a:pt x="21600" y="16467"/>
                  </a:lnTo>
                  <a:lnTo>
                    <a:pt x="20543" y="16915"/>
                  </a:lnTo>
                  <a:lnTo>
                    <a:pt x="20502" y="16915"/>
                  </a:lnTo>
                  <a:lnTo>
                    <a:pt x="20380" y="16979"/>
                  </a:lnTo>
                  <a:lnTo>
                    <a:pt x="20218" y="16979"/>
                  </a:lnTo>
                  <a:lnTo>
                    <a:pt x="20055" y="17043"/>
                  </a:lnTo>
                  <a:lnTo>
                    <a:pt x="19689" y="17107"/>
                  </a:lnTo>
                  <a:lnTo>
                    <a:pt x="19527" y="17171"/>
                  </a:lnTo>
                  <a:lnTo>
                    <a:pt x="19405" y="17171"/>
                  </a:lnTo>
                  <a:lnTo>
                    <a:pt x="19283" y="17171"/>
                  </a:lnTo>
                  <a:lnTo>
                    <a:pt x="19161" y="17171"/>
                  </a:lnTo>
                  <a:lnTo>
                    <a:pt x="18795" y="17235"/>
                  </a:lnTo>
                  <a:lnTo>
                    <a:pt x="18632" y="17235"/>
                  </a:lnTo>
                  <a:lnTo>
                    <a:pt x="18470" y="17299"/>
                  </a:lnTo>
                  <a:lnTo>
                    <a:pt x="18388" y="17299"/>
                  </a:lnTo>
                  <a:lnTo>
                    <a:pt x="18348" y="17299"/>
                  </a:lnTo>
                  <a:lnTo>
                    <a:pt x="17657" y="17683"/>
                  </a:lnTo>
                  <a:lnTo>
                    <a:pt x="17575" y="17683"/>
                  </a:lnTo>
                  <a:lnTo>
                    <a:pt x="17406" y="17683"/>
                  </a:lnTo>
                  <a:lnTo>
                    <a:pt x="17162" y="17747"/>
                  </a:lnTo>
                  <a:lnTo>
                    <a:pt x="16844" y="17811"/>
                  </a:lnTo>
                  <a:lnTo>
                    <a:pt x="16559" y="17875"/>
                  </a:lnTo>
                  <a:lnTo>
                    <a:pt x="16315" y="17940"/>
                  </a:lnTo>
                  <a:lnTo>
                    <a:pt x="16112" y="18004"/>
                  </a:lnTo>
                  <a:lnTo>
                    <a:pt x="16031" y="18132"/>
                  </a:lnTo>
                  <a:lnTo>
                    <a:pt x="15990" y="18196"/>
                  </a:lnTo>
                  <a:lnTo>
                    <a:pt x="15868" y="18196"/>
                  </a:lnTo>
                  <a:lnTo>
                    <a:pt x="15617" y="18004"/>
                  </a:lnTo>
                  <a:lnTo>
                    <a:pt x="15414" y="17811"/>
                  </a:lnTo>
                  <a:lnTo>
                    <a:pt x="15333" y="17747"/>
                  </a:lnTo>
                  <a:lnTo>
                    <a:pt x="15292" y="17683"/>
                  </a:lnTo>
                  <a:lnTo>
                    <a:pt x="13666" y="16915"/>
                  </a:lnTo>
                  <a:lnTo>
                    <a:pt x="12494" y="15891"/>
                  </a:lnTo>
                  <a:lnTo>
                    <a:pt x="11593" y="15506"/>
                  </a:lnTo>
                  <a:lnTo>
                    <a:pt x="12575" y="18068"/>
                  </a:lnTo>
                  <a:lnTo>
                    <a:pt x="12738" y="19679"/>
                  </a:lnTo>
                  <a:lnTo>
                    <a:pt x="12575" y="21280"/>
                  </a:lnTo>
                  <a:lnTo>
                    <a:pt x="11999" y="20511"/>
                  </a:lnTo>
                  <a:lnTo>
                    <a:pt x="10949" y="19156"/>
                  </a:lnTo>
                  <a:lnTo>
                    <a:pt x="10373" y="18708"/>
                  </a:lnTo>
                  <a:lnTo>
                    <a:pt x="10048" y="17427"/>
                  </a:lnTo>
                  <a:lnTo>
                    <a:pt x="9560" y="15762"/>
                  </a:lnTo>
                  <a:lnTo>
                    <a:pt x="9201" y="14738"/>
                  </a:lnTo>
                  <a:lnTo>
                    <a:pt x="8259" y="13777"/>
                  </a:lnTo>
                  <a:lnTo>
                    <a:pt x="7771" y="13649"/>
                  </a:lnTo>
                  <a:lnTo>
                    <a:pt x="860" y="21408"/>
                  </a:lnTo>
                  <a:lnTo>
                    <a:pt x="0" y="21600"/>
                  </a:lnTo>
                  <a:lnTo>
                    <a:pt x="5861" y="15250"/>
                  </a:lnTo>
                  <a:lnTo>
                    <a:pt x="5861" y="15250"/>
                  </a:lnTo>
                  <a:close/>
                  <a:moveTo>
                    <a:pt x="5861" y="15250"/>
                  </a:moveTo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035160" y="660240"/>
              <a:ext cx="4838760" cy="403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204" y="13030"/>
                  </a:moveTo>
                  <a:lnTo>
                    <a:pt x="2186" y="11217"/>
                  </a:lnTo>
                  <a:lnTo>
                    <a:pt x="1028" y="9767"/>
                  </a:lnTo>
                  <a:lnTo>
                    <a:pt x="363" y="8969"/>
                  </a:lnTo>
                  <a:lnTo>
                    <a:pt x="0" y="8461"/>
                  </a:lnTo>
                  <a:lnTo>
                    <a:pt x="2720" y="11580"/>
                  </a:lnTo>
                  <a:lnTo>
                    <a:pt x="2962" y="12160"/>
                  </a:lnTo>
                  <a:lnTo>
                    <a:pt x="3697" y="8098"/>
                  </a:lnTo>
                  <a:lnTo>
                    <a:pt x="3818" y="4968"/>
                  </a:lnTo>
                  <a:lnTo>
                    <a:pt x="3496" y="1426"/>
                  </a:lnTo>
                  <a:lnTo>
                    <a:pt x="3959" y="0"/>
                  </a:lnTo>
                  <a:lnTo>
                    <a:pt x="4000" y="4315"/>
                  </a:lnTo>
                  <a:lnTo>
                    <a:pt x="4241" y="7361"/>
                  </a:lnTo>
                  <a:lnTo>
                    <a:pt x="3879" y="9984"/>
                  </a:lnTo>
                  <a:lnTo>
                    <a:pt x="3879" y="12522"/>
                  </a:lnTo>
                  <a:lnTo>
                    <a:pt x="8835" y="9476"/>
                  </a:lnTo>
                  <a:lnTo>
                    <a:pt x="13188" y="6708"/>
                  </a:lnTo>
                  <a:lnTo>
                    <a:pt x="18154" y="3010"/>
                  </a:lnTo>
                  <a:lnTo>
                    <a:pt x="21116" y="834"/>
                  </a:lnTo>
                  <a:lnTo>
                    <a:pt x="18275" y="3372"/>
                  </a:lnTo>
                  <a:lnTo>
                    <a:pt x="14638" y="6056"/>
                  </a:lnTo>
                  <a:lnTo>
                    <a:pt x="11314" y="8461"/>
                  </a:lnTo>
                  <a:lnTo>
                    <a:pt x="7445" y="10854"/>
                  </a:lnTo>
                  <a:lnTo>
                    <a:pt x="4665" y="13103"/>
                  </a:lnTo>
                  <a:lnTo>
                    <a:pt x="8231" y="14420"/>
                  </a:lnTo>
                  <a:lnTo>
                    <a:pt x="12946" y="14348"/>
                  </a:lnTo>
                  <a:lnTo>
                    <a:pt x="19303" y="16874"/>
                  </a:lnTo>
                  <a:lnTo>
                    <a:pt x="21600" y="17164"/>
                  </a:lnTo>
                  <a:lnTo>
                    <a:pt x="18275" y="17019"/>
                  </a:lnTo>
                  <a:lnTo>
                    <a:pt x="14457" y="15568"/>
                  </a:lnTo>
                  <a:lnTo>
                    <a:pt x="12281" y="14855"/>
                  </a:lnTo>
                  <a:lnTo>
                    <a:pt x="8050" y="14783"/>
                  </a:lnTo>
                  <a:lnTo>
                    <a:pt x="5088" y="13840"/>
                  </a:lnTo>
                  <a:lnTo>
                    <a:pt x="7385" y="16656"/>
                  </a:lnTo>
                  <a:lnTo>
                    <a:pt x="8835" y="19569"/>
                  </a:lnTo>
                  <a:lnTo>
                    <a:pt x="10165" y="21600"/>
                  </a:lnTo>
                  <a:lnTo>
                    <a:pt x="8231" y="19424"/>
                  </a:lnTo>
                  <a:lnTo>
                    <a:pt x="6780" y="16584"/>
                  </a:lnTo>
                  <a:lnTo>
                    <a:pt x="4181" y="13405"/>
                  </a:lnTo>
                  <a:lnTo>
                    <a:pt x="3204" y="13030"/>
                  </a:lnTo>
                  <a:lnTo>
                    <a:pt x="3204" y="13030"/>
                  </a:lnTo>
                  <a:close/>
                  <a:moveTo>
                    <a:pt x="3204" y="13030"/>
                  </a:moveTo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618240" y="3898800"/>
              <a:ext cx="6386400" cy="5340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322" y="7623"/>
                  </a:moveTo>
                  <a:lnTo>
                    <a:pt x="14306" y="6527"/>
                  </a:lnTo>
                  <a:lnTo>
                    <a:pt x="13855" y="5532"/>
                  </a:lnTo>
                  <a:lnTo>
                    <a:pt x="13343" y="3999"/>
                  </a:lnTo>
                  <a:lnTo>
                    <a:pt x="12977" y="2848"/>
                  </a:lnTo>
                  <a:lnTo>
                    <a:pt x="12335" y="2301"/>
                  </a:lnTo>
                  <a:lnTo>
                    <a:pt x="11098" y="767"/>
                  </a:lnTo>
                  <a:lnTo>
                    <a:pt x="10502" y="0"/>
                  </a:lnTo>
                  <a:lnTo>
                    <a:pt x="10273" y="1205"/>
                  </a:lnTo>
                  <a:lnTo>
                    <a:pt x="10456" y="2684"/>
                  </a:lnTo>
                  <a:lnTo>
                    <a:pt x="11556" y="5094"/>
                  </a:lnTo>
                  <a:lnTo>
                    <a:pt x="10548" y="4492"/>
                  </a:lnTo>
                  <a:lnTo>
                    <a:pt x="9173" y="3287"/>
                  </a:lnTo>
                  <a:lnTo>
                    <a:pt x="7340" y="2072"/>
                  </a:lnTo>
                  <a:lnTo>
                    <a:pt x="7294" y="2018"/>
                  </a:lnTo>
                  <a:lnTo>
                    <a:pt x="7248" y="1963"/>
                  </a:lnTo>
                  <a:lnTo>
                    <a:pt x="6973" y="1689"/>
                  </a:lnTo>
                  <a:lnTo>
                    <a:pt x="6698" y="1470"/>
                  </a:lnTo>
                  <a:lnTo>
                    <a:pt x="6561" y="1424"/>
                  </a:lnTo>
                  <a:lnTo>
                    <a:pt x="6515" y="1470"/>
                  </a:lnTo>
                  <a:lnTo>
                    <a:pt x="6423" y="1525"/>
                  </a:lnTo>
                  <a:lnTo>
                    <a:pt x="6187" y="1579"/>
                  </a:lnTo>
                  <a:lnTo>
                    <a:pt x="5866" y="1525"/>
                  </a:lnTo>
                  <a:lnTo>
                    <a:pt x="5499" y="1470"/>
                  </a:lnTo>
                  <a:lnTo>
                    <a:pt x="5179" y="1424"/>
                  </a:lnTo>
                  <a:lnTo>
                    <a:pt x="4865" y="1369"/>
                  </a:lnTo>
                  <a:lnTo>
                    <a:pt x="4682" y="1315"/>
                  </a:lnTo>
                  <a:lnTo>
                    <a:pt x="4590" y="1315"/>
                  </a:lnTo>
                  <a:lnTo>
                    <a:pt x="3804" y="1470"/>
                  </a:lnTo>
                  <a:lnTo>
                    <a:pt x="3758" y="1470"/>
                  </a:lnTo>
                  <a:lnTo>
                    <a:pt x="3666" y="1424"/>
                  </a:lnTo>
                  <a:lnTo>
                    <a:pt x="3483" y="1424"/>
                  </a:lnTo>
                  <a:lnTo>
                    <a:pt x="3300" y="1369"/>
                  </a:lnTo>
                  <a:lnTo>
                    <a:pt x="2895" y="1315"/>
                  </a:lnTo>
                  <a:lnTo>
                    <a:pt x="2757" y="1260"/>
                  </a:lnTo>
                  <a:lnTo>
                    <a:pt x="2612" y="1260"/>
                  </a:lnTo>
                  <a:lnTo>
                    <a:pt x="2475" y="1260"/>
                  </a:lnTo>
                  <a:lnTo>
                    <a:pt x="2291" y="1205"/>
                  </a:lnTo>
                  <a:lnTo>
                    <a:pt x="1879" y="1150"/>
                  </a:lnTo>
                  <a:lnTo>
                    <a:pt x="1650" y="1096"/>
                  </a:lnTo>
                  <a:lnTo>
                    <a:pt x="1466" y="1096"/>
                  </a:lnTo>
                  <a:lnTo>
                    <a:pt x="1329" y="1041"/>
                  </a:lnTo>
                  <a:lnTo>
                    <a:pt x="1283" y="1041"/>
                  </a:lnTo>
                  <a:lnTo>
                    <a:pt x="46" y="1096"/>
                  </a:lnTo>
                  <a:lnTo>
                    <a:pt x="1650" y="2191"/>
                  </a:lnTo>
                  <a:lnTo>
                    <a:pt x="2337" y="2684"/>
                  </a:lnTo>
                  <a:lnTo>
                    <a:pt x="3666" y="4218"/>
                  </a:lnTo>
                  <a:lnTo>
                    <a:pt x="4636" y="5368"/>
                  </a:lnTo>
                  <a:lnTo>
                    <a:pt x="5003" y="6135"/>
                  </a:lnTo>
                  <a:lnTo>
                    <a:pt x="7248" y="7020"/>
                  </a:lnTo>
                  <a:lnTo>
                    <a:pt x="8990" y="7459"/>
                  </a:lnTo>
                  <a:lnTo>
                    <a:pt x="9540" y="7952"/>
                  </a:lnTo>
                  <a:lnTo>
                    <a:pt x="8532" y="7787"/>
                  </a:lnTo>
                  <a:lnTo>
                    <a:pt x="7424" y="7952"/>
                  </a:lnTo>
                  <a:lnTo>
                    <a:pt x="5774" y="8390"/>
                  </a:lnTo>
                  <a:lnTo>
                    <a:pt x="4728" y="8773"/>
                  </a:lnTo>
                  <a:lnTo>
                    <a:pt x="3758" y="10143"/>
                  </a:lnTo>
                  <a:lnTo>
                    <a:pt x="3208" y="11083"/>
                  </a:lnTo>
                  <a:lnTo>
                    <a:pt x="2658" y="12279"/>
                  </a:lnTo>
                  <a:lnTo>
                    <a:pt x="2108" y="13155"/>
                  </a:lnTo>
                  <a:lnTo>
                    <a:pt x="1466" y="13429"/>
                  </a:lnTo>
                  <a:lnTo>
                    <a:pt x="504" y="13374"/>
                  </a:lnTo>
                  <a:lnTo>
                    <a:pt x="321" y="13155"/>
                  </a:lnTo>
                  <a:lnTo>
                    <a:pt x="0" y="13429"/>
                  </a:lnTo>
                  <a:lnTo>
                    <a:pt x="962" y="13867"/>
                  </a:lnTo>
                  <a:lnTo>
                    <a:pt x="2803" y="14470"/>
                  </a:lnTo>
                  <a:lnTo>
                    <a:pt x="4354" y="14525"/>
                  </a:lnTo>
                  <a:lnTo>
                    <a:pt x="5270" y="15191"/>
                  </a:lnTo>
                  <a:lnTo>
                    <a:pt x="7248" y="15629"/>
                  </a:lnTo>
                  <a:lnTo>
                    <a:pt x="9624" y="15465"/>
                  </a:lnTo>
                  <a:lnTo>
                    <a:pt x="10777" y="14634"/>
                  </a:lnTo>
                  <a:lnTo>
                    <a:pt x="11602" y="14032"/>
                  </a:lnTo>
                  <a:lnTo>
                    <a:pt x="12564" y="12772"/>
                  </a:lnTo>
                  <a:lnTo>
                    <a:pt x="12977" y="12662"/>
                  </a:lnTo>
                  <a:lnTo>
                    <a:pt x="13252" y="13813"/>
                  </a:lnTo>
                  <a:lnTo>
                    <a:pt x="13206" y="14306"/>
                  </a:lnTo>
                  <a:lnTo>
                    <a:pt x="13160" y="15246"/>
                  </a:lnTo>
                  <a:lnTo>
                    <a:pt x="13160" y="16451"/>
                  </a:lnTo>
                  <a:lnTo>
                    <a:pt x="13985" y="17930"/>
                  </a:lnTo>
                  <a:lnTo>
                    <a:pt x="14947" y="19080"/>
                  </a:lnTo>
                  <a:lnTo>
                    <a:pt x="15597" y="20349"/>
                  </a:lnTo>
                  <a:lnTo>
                    <a:pt x="16460" y="21600"/>
                  </a:lnTo>
                  <a:lnTo>
                    <a:pt x="16506" y="20952"/>
                  </a:lnTo>
                  <a:lnTo>
                    <a:pt x="16735" y="19473"/>
                  </a:lnTo>
                  <a:lnTo>
                    <a:pt x="16918" y="18697"/>
                  </a:lnTo>
                  <a:lnTo>
                    <a:pt x="17246" y="18642"/>
                  </a:lnTo>
                  <a:lnTo>
                    <a:pt x="17338" y="17985"/>
                  </a:lnTo>
                  <a:lnTo>
                    <a:pt x="17888" y="17054"/>
                  </a:lnTo>
                  <a:lnTo>
                    <a:pt x="17750" y="15958"/>
                  </a:lnTo>
                  <a:lnTo>
                    <a:pt x="17055" y="14360"/>
                  </a:lnTo>
                  <a:lnTo>
                    <a:pt x="16872" y="13265"/>
                  </a:lnTo>
                  <a:lnTo>
                    <a:pt x="16872" y="12279"/>
                  </a:lnTo>
                  <a:lnTo>
                    <a:pt x="17521" y="13539"/>
                  </a:lnTo>
                  <a:lnTo>
                    <a:pt x="18797" y="15073"/>
                  </a:lnTo>
                  <a:lnTo>
                    <a:pt x="19125" y="15073"/>
                  </a:lnTo>
                  <a:lnTo>
                    <a:pt x="19767" y="15410"/>
                  </a:lnTo>
                  <a:lnTo>
                    <a:pt x="20454" y="15684"/>
                  </a:lnTo>
                  <a:lnTo>
                    <a:pt x="20775" y="15629"/>
                  </a:lnTo>
                  <a:lnTo>
                    <a:pt x="20584" y="15356"/>
                  </a:lnTo>
                  <a:lnTo>
                    <a:pt x="20454" y="14853"/>
                  </a:lnTo>
                  <a:lnTo>
                    <a:pt x="20088" y="14580"/>
                  </a:lnTo>
                  <a:lnTo>
                    <a:pt x="19767" y="14087"/>
                  </a:lnTo>
                  <a:lnTo>
                    <a:pt x="19996" y="13539"/>
                  </a:lnTo>
                  <a:lnTo>
                    <a:pt x="19675" y="12772"/>
                  </a:lnTo>
                  <a:lnTo>
                    <a:pt x="19171" y="12389"/>
                  </a:lnTo>
                  <a:lnTo>
                    <a:pt x="19675" y="12334"/>
                  </a:lnTo>
                  <a:lnTo>
                    <a:pt x="19492" y="12005"/>
                  </a:lnTo>
                  <a:lnTo>
                    <a:pt x="17980" y="10809"/>
                  </a:lnTo>
                  <a:lnTo>
                    <a:pt x="17201" y="10252"/>
                  </a:lnTo>
                  <a:lnTo>
                    <a:pt x="16597" y="9211"/>
                  </a:lnTo>
                  <a:lnTo>
                    <a:pt x="16055" y="8499"/>
                  </a:lnTo>
                  <a:lnTo>
                    <a:pt x="16101" y="8499"/>
                  </a:lnTo>
                  <a:lnTo>
                    <a:pt x="16147" y="8445"/>
                  </a:lnTo>
                  <a:lnTo>
                    <a:pt x="16322" y="8280"/>
                  </a:lnTo>
                  <a:lnTo>
                    <a:pt x="16551" y="8061"/>
                  </a:lnTo>
                  <a:lnTo>
                    <a:pt x="16780" y="8006"/>
                  </a:lnTo>
                  <a:lnTo>
                    <a:pt x="16918" y="7952"/>
                  </a:lnTo>
                  <a:lnTo>
                    <a:pt x="17109" y="7842"/>
                  </a:lnTo>
                  <a:lnTo>
                    <a:pt x="17567" y="7568"/>
                  </a:lnTo>
                  <a:lnTo>
                    <a:pt x="17750" y="7459"/>
                  </a:lnTo>
                  <a:lnTo>
                    <a:pt x="17934" y="7294"/>
                  </a:lnTo>
                  <a:lnTo>
                    <a:pt x="18071" y="7240"/>
                  </a:lnTo>
                  <a:lnTo>
                    <a:pt x="18117" y="7185"/>
                  </a:lnTo>
                  <a:lnTo>
                    <a:pt x="21600" y="5368"/>
                  </a:lnTo>
                  <a:lnTo>
                    <a:pt x="21600" y="4820"/>
                  </a:lnTo>
                  <a:lnTo>
                    <a:pt x="15872" y="7897"/>
                  </a:lnTo>
                  <a:lnTo>
                    <a:pt x="15322" y="7623"/>
                  </a:lnTo>
                  <a:lnTo>
                    <a:pt x="15322" y="7623"/>
                  </a:lnTo>
                  <a:close/>
                  <a:moveTo>
                    <a:pt x="15322" y="7623"/>
                  </a:moveTo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137360" y="4199040"/>
              <a:ext cx="4880160" cy="436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480" y="9524"/>
                  </a:moveTo>
                  <a:lnTo>
                    <a:pt x="19433" y="11404"/>
                  </a:lnTo>
                  <a:lnTo>
                    <a:pt x="20577" y="13072"/>
                  </a:lnTo>
                  <a:lnTo>
                    <a:pt x="21239" y="13945"/>
                  </a:lnTo>
                  <a:lnTo>
                    <a:pt x="21600" y="14482"/>
                  </a:lnTo>
                  <a:lnTo>
                    <a:pt x="18951" y="10934"/>
                  </a:lnTo>
                  <a:lnTo>
                    <a:pt x="18660" y="10397"/>
                  </a:lnTo>
                  <a:lnTo>
                    <a:pt x="17878" y="13878"/>
                  </a:lnTo>
                  <a:lnTo>
                    <a:pt x="17758" y="16631"/>
                  </a:lnTo>
                  <a:lnTo>
                    <a:pt x="18239" y="21331"/>
                  </a:lnTo>
                  <a:lnTo>
                    <a:pt x="17938" y="21600"/>
                  </a:lnTo>
                  <a:lnTo>
                    <a:pt x="17517" y="17168"/>
                  </a:lnTo>
                  <a:lnTo>
                    <a:pt x="17336" y="14415"/>
                  </a:lnTo>
                  <a:lnTo>
                    <a:pt x="17697" y="12143"/>
                  </a:lnTo>
                  <a:lnTo>
                    <a:pt x="17758" y="9793"/>
                  </a:lnTo>
                  <a:lnTo>
                    <a:pt x="12721" y="11270"/>
                  </a:lnTo>
                  <a:lnTo>
                    <a:pt x="8277" y="12669"/>
                  </a:lnTo>
                  <a:lnTo>
                    <a:pt x="3241" y="14684"/>
                  </a:lnTo>
                  <a:lnTo>
                    <a:pt x="181" y="15892"/>
                  </a:lnTo>
                  <a:lnTo>
                    <a:pt x="3120" y="14348"/>
                  </a:lnTo>
                  <a:lnTo>
                    <a:pt x="6842" y="12803"/>
                  </a:lnTo>
                  <a:lnTo>
                    <a:pt x="10253" y="11606"/>
                  </a:lnTo>
                  <a:lnTo>
                    <a:pt x="14156" y="10397"/>
                  </a:lnTo>
                  <a:lnTo>
                    <a:pt x="16975" y="9121"/>
                  </a:lnTo>
                  <a:lnTo>
                    <a:pt x="13373" y="6972"/>
                  </a:lnTo>
                  <a:lnTo>
                    <a:pt x="8638" y="5764"/>
                  </a:lnTo>
                  <a:lnTo>
                    <a:pt x="2277" y="1802"/>
                  </a:lnTo>
                  <a:lnTo>
                    <a:pt x="0" y="929"/>
                  </a:lnTo>
                  <a:lnTo>
                    <a:pt x="3301" y="2003"/>
                  </a:lnTo>
                  <a:lnTo>
                    <a:pt x="7143" y="4286"/>
                  </a:lnTo>
                  <a:lnTo>
                    <a:pt x="9360" y="5495"/>
                  </a:lnTo>
                  <a:lnTo>
                    <a:pt x="13554" y="6637"/>
                  </a:lnTo>
                  <a:lnTo>
                    <a:pt x="16554" y="8315"/>
                  </a:lnTo>
                  <a:lnTo>
                    <a:pt x="14276" y="5159"/>
                  </a:lnTo>
                  <a:lnTo>
                    <a:pt x="12902" y="2138"/>
                  </a:lnTo>
                  <a:lnTo>
                    <a:pt x="11578" y="0"/>
                  </a:lnTo>
                  <a:lnTo>
                    <a:pt x="13434" y="2406"/>
                  </a:lnTo>
                  <a:lnTo>
                    <a:pt x="14938" y="5428"/>
                  </a:lnTo>
                  <a:lnTo>
                    <a:pt x="17517" y="8987"/>
                  </a:lnTo>
                  <a:lnTo>
                    <a:pt x="18480" y="9524"/>
                  </a:lnTo>
                  <a:lnTo>
                    <a:pt x="18480" y="9524"/>
                  </a:lnTo>
                  <a:close/>
                  <a:moveTo>
                    <a:pt x="18480" y="9524"/>
                  </a:moveTo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7358040" y="1847880"/>
            <a:ext cx="5189400" cy="7505640"/>
          </a:xfrm>
          <a:prstGeom prst="rect">
            <a:avLst/>
          </a:prstGeom>
          <a:solidFill>
            <a:srgbClr val="feec94"/>
          </a:solidFill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65040" y="947520"/>
            <a:ext cx="6865920" cy="6443640"/>
          </a:xfrm>
          <a:prstGeom prst="rect">
            <a:avLst/>
          </a:prstGeom>
          <a:noFill/>
          <a:ln w="0">
            <a:noFill/>
          </a:ln>
        </p:spPr>
        <p:txBody>
          <a:bodyPr lIns="50760" rIns="14040" tIns="50760" bIns="50760" anchor="ctr">
            <a:normAutofit fontScale="99000"/>
          </a:bodyPr>
          <a:p>
            <a:pPr marL="378720" indent="-339480">
              <a:lnSpc>
                <a:spcPct val="90000"/>
              </a:lnSpc>
              <a:spcBef>
                <a:spcPts val="4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e think of knights in shining armor, lavish banquets, wandering minstrels, kings, queens, bishops, monks, pilgrims, and glorious pageantry.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378720" indent="-339480">
              <a:lnSpc>
                <a:spcPct val="90000"/>
              </a:lnSpc>
              <a:spcBef>
                <a:spcPts val="4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n film and in literature, medieval life seems heroic, entertaining, and romantic.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7521480" y="2001960"/>
            <a:ext cx="4876920" cy="718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"/>
          <p:cNvGrpSpPr/>
          <p:nvPr/>
        </p:nvGrpSpPr>
        <p:grpSpPr>
          <a:xfrm>
            <a:off x="0" y="0"/>
            <a:ext cx="13004640" cy="9867960"/>
            <a:chOff x="0" y="0"/>
            <a:chExt cx="13004640" cy="9867960"/>
          </a:xfrm>
        </p:grpSpPr>
        <p:sp>
          <p:nvSpPr>
            <p:cNvPr id="554" name=""/>
            <p:cNvSpPr/>
            <p:nvPr/>
          </p:nvSpPr>
          <p:spPr>
            <a:xfrm>
              <a:off x="0" y="4989600"/>
              <a:ext cx="5676840" cy="4448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359" y="19495"/>
                  </a:moveTo>
                  <a:lnTo>
                    <a:pt x="6390" y="18300"/>
                  </a:lnTo>
                  <a:lnTo>
                    <a:pt x="7163" y="17839"/>
                  </a:lnTo>
                  <a:lnTo>
                    <a:pt x="7317" y="15350"/>
                  </a:lnTo>
                  <a:lnTo>
                    <a:pt x="7163" y="13431"/>
                  </a:lnTo>
                  <a:lnTo>
                    <a:pt x="7523" y="12839"/>
                  </a:lnTo>
                  <a:lnTo>
                    <a:pt x="7738" y="13903"/>
                  </a:lnTo>
                  <a:lnTo>
                    <a:pt x="8408" y="15021"/>
                  </a:lnTo>
                  <a:lnTo>
                    <a:pt x="9585" y="16655"/>
                  </a:lnTo>
                  <a:lnTo>
                    <a:pt x="10572" y="17773"/>
                  </a:lnTo>
                  <a:lnTo>
                    <a:pt x="11620" y="17894"/>
                  </a:lnTo>
                  <a:lnTo>
                    <a:pt x="12634" y="18563"/>
                  </a:lnTo>
                  <a:lnTo>
                    <a:pt x="14291" y="18190"/>
                  </a:lnTo>
                  <a:lnTo>
                    <a:pt x="15622" y="18398"/>
                  </a:lnTo>
                  <a:lnTo>
                    <a:pt x="16962" y="17894"/>
                  </a:lnTo>
                  <a:lnTo>
                    <a:pt x="16258" y="16589"/>
                  </a:lnTo>
                  <a:lnTo>
                    <a:pt x="16490" y="15186"/>
                  </a:lnTo>
                  <a:lnTo>
                    <a:pt x="16095" y="14089"/>
                  </a:lnTo>
                  <a:lnTo>
                    <a:pt x="16017" y="12379"/>
                  </a:lnTo>
                  <a:lnTo>
                    <a:pt x="15313" y="10603"/>
                  </a:lnTo>
                  <a:lnTo>
                    <a:pt x="13115" y="9769"/>
                  </a:lnTo>
                  <a:lnTo>
                    <a:pt x="11071" y="9572"/>
                  </a:lnTo>
                  <a:lnTo>
                    <a:pt x="11964" y="8563"/>
                  </a:lnTo>
                  <a:lnTo>
                    <a:pt x="13304" y="8169"/>
                  </a:lnTo>
                  <a:lnTo>
                    <a:pt x="13913" y="8092"/>
                  </a:lnTo>
                  <a:lnTo>
                    <a:pt x="15056" y="8026"/>
                  </a:lnTo>
                  <a:lnTo>
                    <a:pt x="16602" y="7894"/>
                  </a:lnTo>
                  <a:lnTo>
                    <a:pt x="18096" y="6776"/>
                  </a:lnTo>
                  <a:lnTo>
                    <a:pt x="19127" y="5658"/>
                  </a:lnTo>
                  <a:lnTo>
                    <a:pt x="20415" y="4802"/>
                  </a:lnTo>
                  <a:lnTo>
                    <a:pt x="21600" y="3695"/>
                  </a:lnTo>
                  <a:lnTo>
                    <a:pt x="20784" y="3761"/>
                  </a:lnTo>
                  <a:lnTo>
                    <a:pt x="18817" y="3761"/>
                  </a:lnTo>
                  <a:lnTo>
                    <a:pt x="17838" y="3629"/>
                  </a:lnTo>
                  <a:lnTo>
                    <a:pt x="17632" y="3300"/>
                  </a:lnTo>
                  <a:lnTo>
                    <a:pt x="16756" y="3300"/>
                  </a:lnTo>
                  <a:lnTo>
                    <a:pt x="15416" y="2840"/>
                  </a:lnTo>
                  <a:lnTo>
                    <a:pt x="14128" y="3169"/>
                  </a:lnTo>
                  <a:lnTo>
                    <a:pt x="12428" y="4079"/>
                  </a:lnTo>
                  <a:lnTo>
                    <a:pt x="11139" y="4474"/>
                  </a:lnTo>
                  <a:lnTo>
                    <a:pt x="9903" y="4539"/>
                  </a:lnTo>
                  <a:lnTo>
                    <a:pt x="11234" y="3695"/>
                  </a:lnTo>
                  <a:lnTo>
                    <a:pt x="12582" y="2171"/>
                  </a:lnTo>
                  <a:lnTo>
                    <a:pt x="12479" y="1842"/>
                  </a:lnTo>
                  <a:lnTo>
                    <a:pt x="12582" y="1118"/>
                  </a:lnTo>
                  <a:lnTo>
                    <a:pt x="12685" y="395"/>
                  </a:lnTo>
                  <a:lnTo>
                    <a:pt x="12479" y="0"/>
                  </a:lnTo>
                  <a:lnTo>
                    <a:pt x="12170" y="263"/>
                  </a:lnTo>
                  <a:lnTo>
                    <a:pt x="11646" y="461"/>
                  </a:lnTo>
                  <a:lnTo>
                    <a:pt x="10212" y="1118"/>
                  </a:lnTo>
                  <a:lnTo>
                    <a:pt x="9430" y="1579"/>
                  </a:lnTo>
                  <a:lnTo>
                    <a:pt x="8812" y="1579"/>
                  </a:lnTo>
                  <a:lnTo>
                    <a:pt x="8511" y="1842"/>
                  </a:lnTo>
                  <a:lnTo>
                    <a:pt x="7635" y="3629"/>
                  </a:lnTo>
                  <a:lnTo>
                    <a:pt x="7317" y="4474"/>
                  </a:lnTo>
                  <a:lnTo>
                    <a:pt x="6235" y="5263"/>
                  </a:lnTo>
                  <a:lnTo>
                    <a:pt x="5574" y="5921"/>
                  </a:lnTo>
                  <a:lnTo>
                    <a:pt x="5522" y="5921"/>
                  </a:lnTo>
                  <a:lnTo>
                    <a:pt x="5471" y="5855"/>
                  </a:lnTo>
                  <a:lnTo>
                    <a:pt x="5153" y="5658"/>
                  </a:lnTo>
                  <a:lnTo>
                    <a:pt x="4844" y="5395"/>
                  </a:lnTo>
                  <a:lnTo>
                    <a:pt x="4741" y="5329"/>
                  </a:lnTo>
                  <a:lnTo>
                    <a:pt x="4638" y="5197"/>
                  </a:lnTo>
                  <a:lnTo>
                    <a:pt x="4535" y="5066"/>
                  </a:lnTo>
                  <a:lnTo>
                    <a:pt x="4329" y="4868"/>
                  </a:lnTo>
                  <a:lnTo>
                    <a:pt x="4071" y="4671"/>
                  </a:lnTo>
                  <a:lnTo>
                    <a:pt x="3813" y="4474"/>
                  </a:lnTo>
                  <a:lnTo>
                    <a:pt x="3564" y="4276"/>
                  </a:lnTo>
                  <a:lnTo>
                    <a:pt x="3307" y="4079"/>
                  </a:lnTo>
                  <a:lnTo>
                    <a:pt x="3143" y="4013"/>
                  </a:lnTo>
                  <a:lnTo>
                    <a:pt x="3092" y="3947"/>
                  </a:lnTo>
                  <a:lnTo>
                    <a:pt x="1649" y="2566"/>
                  </a:lnTo>
                  <a:lnTo>
                    <a:pt x="1804" y="3366"/>
                  </a:lnTo>
                  <a:lnTo>
                    <a:pt x="4895" y="6184"/>
                  </a:lnTo>
                  <a:lnTo>
                    <a:pt x="4792" y="6776"/>
                  </a:lnTo>
                  <a:lnTo>
                    <a:pt x="3813" y="8026"/>
                  </a:lnTo>
                  <a:lnTo>
                    <a:pt x="2783" y="8629"/>
                  </a:lnTo>
                  <a:lnTo>
                    <a:pt x="2731" y="8629"/>
                  </a:lnTo>
                  <a:lnTo>
                    <a:pt x="2216" y="8892"/>
                  </a:lnTo>
                  <a:lnTo>
                    <a:pt x="1091" y="9353"/>
                  </a:lnTo>
                  <a:lnTo>
                    <a:pt x="0" y="9879"/>
                  </a:lnTo>
                  <a:lnTo>
                    <a:pt x="0" y="12774"/>
                  </a:lnTo>
                  <a:lnTo>
                    <a:pt x="670" y="12576"/>
                  </a:lnTo>
                  <a:lnTo>
                    <a:pt x="3195" y="11129"/>
                  </a:lnTo>
                  <a:lnTo>
                    <a:pt x="2886" y="12247"/>
                  </a:lnTo>
                  <a:lnTo>
                    <a:pt x="1907" y="13837"/>
                  </a:lnTo>
                  <a:lnTo>
                    <a:pt x="1245" y="15931"/>
                  </a:lnTo>
                  <a:lnTo>
                    <a:pt x="1194" y="15997"/>
                  </a:lnTo>
                  <a:lnTo>
                    <a:pt x="1142" y="16063"/>
                  </a:lnTo>
                  <a:lnTo>
                    <a:pt x="876" y="16392"/>
                  </a:lnTo>
                  <a:lnTo>
                    <a:pt x="773" y="16523"/>
                  </a:lnTo>
                  <a:lnTo>
                    <a:pt x="721" y="16655"/>
                  </a:lnTo>
                  <a:lnTo>
                    <a:pt x="721" y="16787"/>
                  </a:lnTo>
                  <a:lnTo>
                    <a:pt x="824" y="16852"/>
                  </a:lnTo>
                  <a:lnTo>
                    <a:pt x="979" y="16984"/>
                  </a:lnTo>
                  <a:lnTo>
                    <a:pt x="1091" y="17181"/>
                  </a:lnTo>
                  <a:lnTo>
                    <a:pt x="1194" y="17510"/>
                  </a:lnTo>
                  <a:lnTo>
                    <a:pt x="1245" y="17905"/>
                  </a:lnTo>
                  <a:lnTo>
                    <a:pt x="1288" y="18234"/>
                  </a:lnTo>
                  <a:lnTo>
                    <a:pt x="1340" y="18563"/>
                  </a:lnTo>
                  <a:lnTo>
                    <a:pt x="1391" y="18826"/>
                  </a:lnTo>
                  <a:lnTo>
                    <a:pt x="1391" y="18892"/>
                  </a:lnTo>
                  <a:lnTo>
                    <a:pt x="1855" y="19692"/>
                  </a:lnTo>
                  <a:lnTo>
                    <a:pt x="1855" y="19758"/>
                  </a:lnTo>
                  <a:lnTo>
                    <a:pt x="1907" y="19890"/>
                  </a:lnTo>
                  <a:lnTo>
                    <a:pt x="1958" y="20284"/>
                  </a:lnTo>
                  <a:lnTo>
                    <a:pt x="2010" y="20679"/>
                  </a:lnTo>
                  <a:lnTo>
                    <a:pt x="2061" y="20876"/>
                  </a:lnTo>
                  <a:lnTo>
                    <a:pt x="2061" y="21008"/>
                  </a:lnTo>
                  <a:lnTo>
                    <a:pt x="2113" y="21074"/>
                  </a:lnTo>
                  <a:lnTo>
                    <a:pt x="2164" y="21205"/>
                  </a:lnTo>
                  <a:lnTo>
                    <a:pt x="2216" y="21600"/>
                  </a:lnTo>
                  <a:lnTo>
                    <a:pt x="3762" y="21600"/>
                  </a:lnTo>
                  <a:lnTo>
                    <a:pt x="3968" y="21074"/>
                  </a:lnTo>
                  <a:lnTo>
                    <a:pt x="5359" y="19495"/>
                  </a:lnTo>
                  <a:lnTo>
                    <a:pt x="5359" y="19495"/>
                  </a:lnTo>
                  <a:close/>
                  <a:moveTo>
                    <a:pt x="5359" y="19495"/>
                  </a:moveTo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0" y="5638680"/>
              <a:ext cx="4762440" cy="3621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901" y="13283"/>
                  </a:moveTo>
                  <a:lnTo>
                    <a:pt x="5535" y="8699"/>
                  </a:lnTo>
                  <a:lnTo>
                    <a:pt x="6817" y="5031"/>
                  </a:lnTo>
                  <a:lnTo>
                    <a:pt x="9432" y="7476"/>
                  </a:lnTo>
                  <a:lnTo>
                    <a:pt x="12352" y="11067"/>
                  </a:lnTo>
                  <a:lnTo>
                    <a:pt x="15088" y="14124"/>
                  </a:lnTo>
                  <a:lnTo>
                    <a:pt x="18314" y="17321"/>
                  </a:lnTo>
                  <a:lnTo>
                    <a:pt x="19158" y="18008"/>
                  </a:lnTo>
                  <a:lnTo>
                    <a:pt x="18680" y="17244"/>
                  </a:lnTo>
                  <a:lnTo>
                    <a:pt x="14356" y="12749"/>
                  </a:lnTo>
                  <a:lnTo>
                    <a:pt x="11070" y="8699"/>
                  </a:lnTo>
                  <a:lnTo>
                    <a:pt x="7356" y="4190"/>
                  </a:lnTo>
                  <a:lnTo>
                    <a:pt x="10164" y="3961"/>
                  </a:lnTo>
                  <a:lnTo>
                    <a:pt x="13084" y="4037"/>
                  </a:lnTo>
                  <a:lnTo>
                    <a:pt x="16421" y="3426"/>
                  </a:lnTo>
                  <a:lnTo>
                    <a:pt x="21600" y="2509"/>
                  </a:lnTo>
                  <a:lnTo>
                    <a:pt x="21112" y="2203"/>
                  </a:lnTo>
                  <a:lnTo>
                    <a:pt x="15699" y="3273"/>
                  </a:lnTo>
                  <a:lnTo>
                    <a:pt x="12291" y="3502"/>
                  </a:lnTo>
                  <a:lnTo>
                    <a:pt x="7722" y="3273"/>
                  </a:lnTo>
                  <a:lnTo>
                    <a:pt x="8333" y="2891"/>
                  </a:lnTo>
                  <a:lnTo>
                    <a:pt x="11619" y="0"/>
                  </a:lnTo>
                  <a:lnTo>
                    <a:pt x="11070" y="382"/>
                  </a:lnTo>
                  <a:lnTo>
                    <a:pt x="10276" y="1070"/>
                  </a:lnTo>
                  <a:lnTo>
                    <a:pt x="8699" y="2433"/>
                  </a:lnTo>
                  <a:lnTo>
                    <a:pt x="6817" y="3579"/>
                  </a:lnTo>
                  <a:lnTo>
                    <a:pt x="6450" y="4572"/>
                  </a:lnTo>
                  <a:lnTo>
                    <a:pt x="3103" y="7476"/>
                  </a:lnTo>
                  <a:lnTo>
                    <a:pt x="0" y="9233"/>
                  </a:lnTo>
                  <a:lnTo>
                    <a:pt x="0" y="9310"/>
                  </a:lnTo>
                  <a:lnTo>
                    <a:pt x="0" y="9768"/>
                  </a:lnTo>
                  <a:lnTo>
                    <a:pt x="3042" y="8087"/>
                  </a:lnTo>
                  <a:lnTo>
                    <a:pt x="6023" y="5489"/>
                  </a:lnTo>
                  <a:lnTo>
                    <a:pt x="5169" y="8546"/>
                  </a:lnTo>
                  <a:lnTo>
                    <a:pt x="5352" y="12672"/>
                  </a:lnTo>
                  <a:lnTo>
                    <a:pt x="4680" y="14875"/>
                  </a:lnTo>
                  <a:lnTo>
                    <a:pt x="3347" y="18849"/>
                  </a:lnTo>
                  <a:lnTo>
                    <a:pt x="3286" y="21600"/>
                  </a:lnTo>
                  <a:lnTo>
                    <a:pt x="3347" y="21600"/>
                  </a:lnTo>
                  <a:lnTo>
                    <a:pt x="3530" y="19766"/>
                  </a:lnTo>
                  <a:lnTo>
                    <a:pt x="5901" y="13283"/>
                  </a:lnTo>
                  <a:lnTo>
                    <a:pt x="5901" y="13283"/>
                  </a:lnTo>
                  <a:close/>
                  <a:moveTo>
                    <a:pt x="5901" y="13283"/>
                  </a:moveTo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722840" y="7299360"/>
              <a:ext cx="8281800" cy="2128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505" y="6872"/>
                  </a:moveTo>
                  <a:lnTo>
                    <a:pt x="19657" y="6597"/>
                  </a:lnTo>
                  <a:lnTo>
                    <a:pt x="19551" y="6047"/>
                  </a:lnTo>
                  <a:lnTo>
                    <a:pt x="18809" y="5910"/>
                  </a:lnTo>
                  <a:lnTo>
                    <a:pt x="17778" y="4948"/>
                  </a:lnTo>
                  <a:lnTo>
                    <a:pt x="16583" y="5360"/>
                  </a:lnTo>
                  <a:lnTo>
                    <a:pt x="14916" y="6597"/>
                  </a:lnTo>
                  <a:lnTo>
                    <a:pt x="13721" y="7009"/>
                  </a:lnTo>
                  <a:lnTo>
                    <a:pt x="12655" y="7147"/>
                  </a:lnTo>
                  <a:lnTo>
                    <a:pt x="13968" y="5910"/>
                  </a:lnTo>
                  <a:lnTo>
                    <a:pt x="15452" y="3573"/>
                  </a:lnTo>
                  <a:lnTo>
                    <a:pt x="15452" y="3024"/>
                  </a:lnTo>
                  <a:lnTo>
                    <a:pt x="15699" y="1787"/>
                  </a:lnTo>
                  <a:lnTo>
                    <a:pt x="15941" y="550"/>
                  </a:lnTo>
                  <a:lnTo>
                    <a:pt x="15870" y="0"/>
                  </a:lnTo>
                  <a:lnTo>
                    <a:pt x="15558" y="275"/>
                  </a:lnTo>
                  <a:lnTo>
                    <a:pt x="15058" y="687"/>
                  </a:lnTo>
                  <a:lnTo>
                    <a:pt x="14810" y="1237"/>
                  </a:lnTo>
                  <a:lnTo>
                    <a:pt x="14280" y="1924"/>
                  </a:lnTo>
                  <a:lnTo>
                    <a:pt x="13685" y="1512"/>
                  </a:lnTo>
                  <a:lnTo>
                    <a:pt x="12902" y="2062"/>
                  </a:lnTo>
                  <a:lnTo>
                    <a:pt x="12372" y="2062"/>
                  </a:lnTo>
                  <a:lnTo>
                    <a:pt x="12054" y="2474"/>
                  </a:lnTo>
                  <a:lnTo>
                    <a:pt x="10924" y="5222"/>
                  </a:lnTo>
                  <a:lnTo>
                    <a:pt x="10429" y="6597"/>
                  </a:lnTo>
                  <a:lnTo>
                    <a:pt x="9369" y="7719"/>
                  </a:lnTo>
                  <a:lnTo>
                    <a:pt x="8627" y="8681"/>
                  </a:lnTo>
                  <a:lnTo>
                    <a:pt x="8592" y="8681"/>
                  </a:lnTo>
                  <a:lnTo>
                    <a:pt x="8556" y="8544"/>
                  </a:lnTo>
                  <a:lnTo>
                    <a:pt x="8344" y="8269"/>
                  </a:lnTo>
                  <a:lnTo>
                    <a:pt x="8132" y="7857"/>
                  </a:lnTo>
                  <a:lnTo>
                    <a:pt x="8026" y="7582"/>
                  </a:lnTo>
                  <a:lnTo>
                    <a:pt x="7991" y="7421"/>
                  </a:lnTo>
                  <a:lnTo>
                    <a:pt x="7915" y="7147"/>
                  </a:lnTo>
                  <a:lnTo>
                    <a:pt x="7773" y="6872"/>
                  </a:lnTo>
                  <a:lnTo>
                    <a:pt x="7597" y="6597"/>
                  </a:lnTo>
                  <a:lnTo>
                    <a:pt x="7420" y="6185"/>
                  </a:lnTo>
                  <a:lnTo>
                    <a:pt x="7243" y="5772"/>
                  </a:lnTo>
                  <a:lnTo>
                    <a:pt x="6990" y="5200"/>
                  </a:lnTo>
                  <a:lnTo>
                    <a:pt x="6590" y="5200"/>
                  </a:lnTo>
                  <a:lnTo>
                    <a:pt x="7991" y="9094"/>
                  </a:lnTo>
                  <a:lnTo>
                    <a:pt x="7773" y="10033"/>
                  </a:lnTo>
                  <a:lnTo>
                    <a:pt x="6684" y="11957"/>
                  </a:lnTo>
                  <a:lnTo>
                    <a:pt x="5653" y="12781"/>
                  </a:lnTo>
                  <a:lnTo>
                    <a:pt x="4028" y="13743"/>
                  </a:lnTo>
                  <a:lnTo>
                    <a:pt x="2791" y="14431"/>
                  </a:lnTo>
                  <a:lnTo>
                    <a:pt x="2297" y="15667"/>
                  </a:lnTo>
                  <a:lnTo>
                    <a:pt x="777" y="17889"/>
                  </a:lnTo>
                  <a:lnTo>
                    <a:pt x="0" y="18989"/>
                  </a:lnTo>
                  <a:lnTo>
                    <a:pt x="1378" y="19401"/>
                  </a:lnTo>
                  <a:lnTo>
                    <a:pt x="2933" y="18989"/>
                  </a:lnTo>
                  <a:lnTo>
                    <a:pt x="5447" y="16927"/>
                  </a:lnTo>
                  <a:lnTo>
                    <a:pt x="4947" y="18714"/>
                  </a:lnTo>
                  <a:lnTo>
                    <a:pt x="3751" y="21188"/>
                  </a:lnTo>
                  <a:lnTo>
                    <a:pt x="3610" y="21600"/>
                  </a:lnTo>
                  <a:lnTo>
                    <a:pt x="8274" y="21600"/>
                  </a:lnTo>
                  <a:lnTo>
                    <a:pt x="8309" y="21188"/>
                  </a:lnTo>
                  <a:lnTo>
                    <a:pt x="8521" y="21600"/>
                  </a:lnTo>
                  <a:lnTo>
                    <a:pt x="17219" y="21600"/>
                  </a:lnTo>
                  <a:lnTo>
                    <a:pt x="17007" y="19676"/>
                  </a:lnTo>
                  <a:lnTo>
                    <a:pt x="15976" y="17752"/>
                  </a:lnTo>
                  <a:lnTo>
                    <a:pt x="15205" y="16217"/>
                  </a:lnTo>
                  <a:lnTo>
                    <a:pt x="13756" y="14568"/>
                  </a:lnTo>
                  <a:lnTo>
                    <a:pt x="13538" y="13881"/>
                  </a:lnTo>
                  <a:lnTo>
                    <a:pt x="14775" y="13331"/>
                  </a:lnTo>
                  <a:lnTo>
                    <a:pt x="15346" y="13469"/>
                  </a:lnTo>
                  <a:lnTo>
                    <a:pt x="16330" y="13469"/>
                  </a:lnTo>
                  <a:lnTo>
                    <a:pt x="17672" y="13331"/>
                  </a:lnTo>
                  <a:lnTo>
                    <a:pt x="19191" y="11819"/>
                  </a:lnTo>
                  <a:lnTo>
                    <a:pt x="20328" y="10033"/>
                  </a:lnTo>
                  <a:lnTo>
                    <a:pt x="21600" y="8956"/>
                  </a:lnTo>
                  <a:lnTo>
                    <a:pt x="21600" y="7147"/>
                  </a:lnTo>
                  <a:lnTo>
                    <a:pt x="20505" y="6872"/>
                  </a:lnTo>
                  <a:lnTo>
                    <a:pt x="20505" y="6872"/>
                  </a:lnTo>
                  <a:close/>
                  <a:moveTo>
                    <a:pt x="20505" y="6872"/>
                  </a:moveTo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0" y="1181160"/>
              <a:ext cx="2195640" cy="2698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200" y="21491"/>
                  </a:moveTo>
                  <a:lnTo>
                    <a:pt x="10923" y="21600"/>
                  </a:lnTo>
                  <a:lnTo>
                    <a:pt x="12929" y="20839"/>
                  </a:lnTo>
                  <a:lnTo>
                    <a:pt x="18123" y="19661"/>
                  </a:lnTo>
                  <a:lnTo>
                    <a:pt x="20798" y="19117"/>
                  </a:lnTo>
                  <a:lnTo>
                    <a:pt x="16919" y="17921"/>
                  </a:lnTo>
                  <a:lnTo>
                    <a:pt x="12394" y="17269"/>
                  </a:lnTo>
                  <a:lnTo>
                    <a:pt x="4391" y="17595"/>
                  </a:lnTo>
                  <a:lnTo>
                    <a:pt x="6665" y="16182"/>
                  </a:lnTo>
                  <a:lnTo>
                    <a:pt x="11056" y="14551"/>
                  </a:lnTo>
                  <a:lnTo>
                    <a:pt x="15470" y="12159"/>
                  </a:lnTo>
                  <a:lnTo>
                    <a:pt x="15604" y="12159"/>
                  </a:lnTo>
                  <a:lnTo>
                    <a:pt x="15871" y="12050"/>
                  </a:lnTo>
                  <a:lnTo>
                    <a:pt x="16785" y="11724"/>
                  </a:lnTo>
                  <a:lnTo>
                    <a:pt x="17320" y="11615"/>
                  </a:lnTo>
                  <a:lnTo>
                    <a:pt x="17588" y="11398"/>
                  </a:lnTo>
                  <a:lnTo>
                    <a:pt x="17721" y="11181"/>
                  </a:lnTo>
                  <a:lnTo>
                    <a:pt x="17588" y="11072"/>
                  </a:lnTo>
                  <a:lnTo>
                    <a:pt x="17454" y="10854"/>
                  </a:lnTo>
                  <a:lnTo>
                    <a:pt x="17454" y="10419"/>
                  </a:lnTo>
                  <a:lnTo>
                    <a:pt x="17721" y="9876"/>
                  </a:lnTo>
                  <a:lnTo>
                    <a:pt x="17989" y="9332"/>
                  </a:lnTo>
                  <a:lnTo>
                    <a:pt x="18390" y="8789"/>
                  </a:lnTo>
                  <a:lnTo>
                    <a:pt x="18658" y="8245"/>
                  </a:lnTo>
                  <a:lnTo>
                    <a:pt x="18791" y="7919"/>
                  </a:lnTo>
                  <a:lnTo>
                    <a:pt x="18925" y="7810"/>
                  </a:lnTo>
                  <a:lnTo>
                    <a:pt x="18925" y="6288"/>
                  </a:lnTo>
                  <a:lnTo>
                    <a:pt x="18925" y="6179"/>
                  </a:lnTo>
                  <a:lnTo>
                    <a:pt x="19059" y="6070"/>
                  </a:lnTo>
                  <a:lnTo>
                    <a:pt x="19460" y="5527"/>
                  </a:lnTo>
                  <a:lnTo>
                    <a:pt x="19728" y="4874"/>
                  </a:lnTo>
                  <a:lnTo>
                    <a:pt x="19995" y="4331"/>
                  </a:lnTo>
                  <a:lnTo>
                    <a:pt x="20129" y="4113"/>
                  </a:lnTo>
                  <a:lnTo>
                    <a:pt x="20263" y="3896"/>
                  </a:lnTo>
                  <a:lnTo>
                    <a:pt x="20664" y="3135"/>
                  </a:lnTo>
                  <a:lnTo>
                    <a:pt x="21065" y="2483"/>
                  </a:lnTo>
                  <a:lnTo>
                    <a:pt x="21199" y="2265"/>
                  </a:lnTo>
                  <a:lnTo>
                    <a:pt x="21199" y="2156"/>
                  </a:lnTo>
                  <a:lnTo>
                    <a:pt x="21600" y="0"/>
                  </a:lnTo>
                  <a:lnTo>
                    <a:pt x="21065" y="852"/>
                  </a:lnTo>
                  <a:lnTo>
                    <a:pt x="17454" y="2048"/>
                  </a:lnTo>
                  <a:lnTo>
                    <a:pt x="15737" y="2917"/>
                  </a:lnTo>
                  <a:lnTo>
                    <a:pt x="10254" y="4222"/>
                  </a:lnTo>
                  <a:lnTo>
                    <a:pt x="6264" y="5201"/>
                  </a:lnTo>
                  <a:lnTo>
                    <a:pt x="3856" y="5309"/>
                  </a:lnTo>
                  <a:lnTo>
                    <a:pt x="267" y="8789"/>
                  </a:lnTo>
                  <a:lnTo>
                    <a:pt x="0" y="9223"/>
                  </a:lnTo>
                  <a:lnTo>
                    <a:pt x="0" y="21491"/>
                  </a:lnTo>
                  <a:lnTo>
                    <a:pt x="2140" y="21383"/>
                  </a:lnTo>
                  <a:lnTo>
                    <a:pt x="7200" y="21491"/>
                  </a:lnTo>
                  <a:lnTo>
                    <a:pt x="7200" y="21491"/>
                  </a:lnTo>
                  <a:close/>
                  <a:moveTo>
                    <a:pt x="7200" y="21491"/>
                  </a:moveTo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97840" y="1440"/>
              <a:ext cx="5802120" cy="511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354" y="4413"/>
                  </a:moveTo>
                  <a:lnTo>
                    <a:pt x="7220" y="5834"/>
                  </a:lnTo>
                  <a:lnTo>
                    <a:pt x="7875" y="6863"/>
                  </a:lnTo>
                  <a:lnTo>
                    <a:pt x="9136" y="8131"/>
                  </a:lnTo>
                  <a:lnTo>
                    <a:pt x="9287" y="8646"/>
                  </a:lnTo>
                  <a:lnTo>
                    <a:pt x="8077" y="8703"/>
                  </a:lnTo>
                  <a:lnTo>
                    <a:pt x="7522" y="8589"/>
                  </a:lnTo>
                  <a:lnTo>
                    <a:pt x="6606" y="8417"/>
                  </a:lnTo>
                  <a:lnTo>
                    <a:pt x="5354" y="8188"/>
                  </a:lnTo>
                  <a:lnTo>
                    <a:pt x="3782" y="8874"/>
                  </a:lnTo>
                  <a:lnTo>
                    <a:pt x="2572" y="9732"/>
                  </a:lnTo>
                  <a:lnTo>
                    <a:pt x="1261" y="10247"/>
                  </a:lnTo>
                  <a:lnTo>
                    <a:pt x="0" y="10991"/>
                  </a:lnTo>
                  <a:lnTo>
                    <a:pt x="656" y="11105"/>
                  </a:lnTo>
                  <a:lnTo>
                    <a:pt x="2219" y="11629"/>
                  </a:lnTo>
                  <a:lnTo>
                    <a:pt x="3034" y="11972"/>
                  </a:lnTo>
                  <a:lnTo>
                    <a:pt x="3085" y="12373"/>
                  </a:lnTo>
                  <a:lnTo>
                    <a:pt x="3732" y="12544"/>
                  </a:lnTo>
                  <a:lnTo>
                    <a:pt x="4690" y="13345"/>
                  </a:lnTo>
                  <a:lnTo>
                    <a:pt x="5858" y="13345"/>
                  </a:lnTo>
                  <a:lnTo>
                    <a:pt x="7522" y="12830"/>
                  </a:lnTo>
                  <a:lnTo>
                    <a:pt x="8623" y="12830"/>
                  </a:lnTo>
                  <a:lnTo>
                    <a:pt x="9640" y="12945"/>
                  </a:lnTo>
                  <a:lnTo>
                    <a:pt x="8329" y="13459"/>
                  </a:lnTo>
                  <a:lnTo>
                    <a:pt x="6757" y="14661"/>
                  </a:lnTo>
                  <a:lnTo>
                    <a:pt x="6757" y="15004"/>
                  </a:lnTo>
                  <a:lnTo>
                    <a:pt x="6404" y="15680"/>
                  </a:lnTo>
                  <a:lnTo>
                    <a:pt x="6102" y="16376"/>
                  </a:lnTo>
                  <a:lnTo>
                    <a:pt x="6152" y="16720"/>
                  </a:lnTo>
                  <a:lnTo>
                    <a:pt x="6455" y="16605"/>
                  </a:lnTo>
                  <a:lnTo>
                    <a:pt x="6967" y="16491"/>
                  </a:lnTo>
                  <a:lnTo>
                    <a:pt x="7270" y="16138"/>
                  </a:lnTo>
                  <a:lnTo>
                    <a:pt x="7774" y="15852"/>
                  </a:lnTo>
                  <a:lnTo>
                    <a:pt x="8329" y="16195"/>
                  </a:lnTo>
                  <a:lnTo>
                    <a:pt x="9136" y="15966"/>
                  </a:lnTo>
                  <a:lnTo>
                    <a:pt x="9539" y="15509"/>
                  </a:lnTo>
                  <a:lnTo>
                    <a:pt x="9640" y="16081"/>
                  </a:lnTo>
                  <a:lnTo>
                    <a:pt x="9943" y="15909"/>
                  </a:lnTo>
                  <a:lnTo>
                    <a:pt x="11203" y="14432"/>
                  </a:lnTo>
                  <a:lnTo>
                    <a:pt x="11758" y="13688"/>
                  </a:lnTo>
                  <a:lnTo>
                    <a:pt x="12826" y="13174"/>
                  </a:lnTo>
                  <a:lnTo>
                    <a:pt x="13574" y="12716"/>
                  </a:lnTo>
                  <a:lnTo>
                    <a:pt x="13674" y="12830"/>
                  </a:lnTo>
                  <a:lnTo>
                    <a:pt x="13826" y="13059"/>
                  </a:lnTo>
                  <a:lnTo>
                    <a:pt x="14027" y="13345"/>
                  </a:lnTo>
                  <a:lnTo>
                    <a:pt x="14128" y="13631"/>
                  </a:lnTo>
                  <a:lnTo>
                    <a:pt x="14179" y="13803"/>
                  </a:lnTo>
                  <a:lnTo>
                    <a:pt x="14280" y="13974"/>
                  </a:lnTo>
                  <a:lnTo>
                    <a:pt x="14532" y="14489"/>
                  </a:lnTo>
                  <a:lnTo>
                    <a:pt x="14683" y="14775"/>
                  </a:lnTo>
                  <a:lnTo>
                    <a:pt x="14843" y="15004"/>
                  </a:lnTo>
                  <a:lnTo>
                    <a:pt x="14893" y="15118"/>
                  </a:lnTo>
                  <a:lnTo>
                    <a:pt x="14944" y="15175"/>
                  </a:lnTo>
                  <a:lnTo>
                    <a:pt x="17852" y="21428"/>
                  </a:lnTo>
                  <a:lnTo>
                    <a:pt x="18616" y="21600"/>
                  </a:lnTo>
                  <a:lnTo>
                    <a:pt x="14229" y="12602"/>
                  </a:lnTo>
                  <a:lnTo>
                    <a:pt x="14481" y="12030"/>
                  </a:lnTo>
                  <a:lnTo>
                    <a:pt x="15641" y="11105"/>
                  </a:lnTo>
                  <a:lnTo>
                    <a:pt x="16708" y="10762"/>
                  </a:lnTo>
                  <a:lnTo>
                    <a:pt x="18263" y="10476"/>
                  </a:lnTo>
                  <a:lnTo>
                    <a:pt x="19482" y="10247"/>
                  </a:lnTo>
                  <a:lnTo>
                    <a:pt x="20087" y="9618"/>
                  </a:lnTo>
                  <a:lnTo>
                    <a:pt x="21600" y="8531"/>
                  </a:lnTo>
                  <a:lnTo>
                    <a:pt x="21600" y="7673"/>
                  </a:lnTo>
                  <a:lnTo>
                    <a:pt x="21146" y="7502"/>
                  </a:lnTo>
                  <a:lnTo>
                    <a:pt x="19684" y="7445"/>
                  </a:lnTo>
                  <a:lnTo>
                    <a:pt x="17162" y="8303"/>
                  </a:lnTo>
                  <a:lnTo>
                    <a:pt x="17767" y="7273"/>
                  </a:lnTo>
                  <a:lnTo>
                    <a:pt x="19028" y="5948"/>
                  </a:lnTo>
                  <a:lnTo>
                    <a:pt x="20238" y="4127"/>
                  </a:lnTo>
                  <a:lnTo>
                    <a:pt x="20289" y="4127"/>
                  </a:lnTo>
                  <a:lnTo>
                    <a:pt x="20390" y="4013"/>
                  </a:lnTo>
                  <a:lnTo>
                    <a:pt x="20642" y="3784"/>
                  </a:lnTo>
                  <a:lnTo>
                    <a:pt x="20793" y="3613"/>
                  </a:lnTo>
                  <a:lnTo>
                    <a:pt x="20894" y="3498"/>
                  </a:lnTo>
                  <a:lnTo>
                    <a:pt x="20944" y="3384"/>
                  </a:lnTo>
                  <a:lnTo>
                    <a:pt x="20894" y="3327"/>
                  </a:lnTo>
                  <a:lnTo>
                    <a:pt x="20793" y="3212"/>
                  </a:lnTo>
                  <a:lnTo>
                    <a:pt x="20793" y="2926"/>
                  </a:lnTo>
                  <a:lnTo>
                    <a:pt x="20793" y="2583"/>
                  </a:lnTo>
                  <a:lnTo>
                    <a:pt x="20844" y="2173"/>
                  </a:lnTo>
                  <a:lnTo>
                    <a:pt x="20944" y="1830"/>
                  </a:lnTo>
                  <a:lnTo>
                    <a:pt x="20995" y="1487"/>
                  </a:lnTo>
                  <a:lnTo>
                    <a:pt x="21045" y="1258"/>
                  </a:lnTo>
                  <a:lnTo>
                    <a:pt x="21045" y="1201"/>
                  </a:lnTo>
                  <a:lnTo>
                    <a:pt x="20944" y="343"/>
                  </a:lnTo>
                  <a:lnTo>
                    <a:pt x="20944" y="343"/>
                  </a:lnTo>
                  <a:lnTo>
                    <a:pt x="20944" y="229"/>
                  </a:lnTo>
                  <a:lnTo>
                    <a:pt x="20995" y="0"/>
                  </a:lnTo>
                  <a:lnTo>
                    <a:pt x="17667" y="0"/>
                  </a:lnTo>
                  <a:lnTo>
                    <a:pt x="16860" y="572"/>
                  </a:lnTo>
                  <a:lnTo>
                    <a:pt x="16045" y="858"/>
                  </a:lnTo>
                  <a:lnTo>
                    <a:pt x="15196" y="3212"/>
                  </a:lnTo>
                  <a:lnTo>
                    <a:pt x="14683" y="5100"/>
                  </a:lnTo>
                  <a:lnTo>
                    <a:pt x="14179" y="5605"/>
                  </a:lnTo>
                  <a:lnTo>
                    <a:pt x="14380" y="4471"/>
                  </a:lnTo>
                  <a:lnTo>
                    <a:pt x="14179" y="3270"/>
                  </a:lnTo>
                  <a:lnTo>
                    <a:pt x="13725" y="1373"/>
                  </a:lnTo>
                  <a:lnTo>
                    <a:pt x="13321" y="114"/>
                  </a:lnTo>
                  <a:lnTo>
                    <a:pt x="13271" y="0"/>
                  </a:lnTo>
                  <a:lnTo>
                    <a:pt x="6606" y="0"/>
                  </a:lnTo>
                  <a:lnTo>
                    <a:pt x="6203" y="1773"/>
                  </a:lnTo>
                  <a:lnTo>
                    <a:pt x="6354" y="4413"/>
                  </a:lnTo>
                  <a:lnTo>
                    <a:pt x="6354" y="4413"/>
                  </a:lnTo>
                  <a:close/>
                  <a:moveTo>
                    <a:pt x="6354" y="4413"/>
                  </a:moveTo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958160" y="1440"/>
              <a:ext cx="4932360" cy="3405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264" y="11008"/>
                  </a:moveTo>
                  <a:lnTo>
                    <a:pt x="11813" y="17725"/>
                  </a:lnTo>
                  <a:lnTo>
                    <a:pt x="9490" y="17122"/>
                  </a:lnTo>
                  <a:lnTo>
                    <a:pt x="7177" y="16175"/>
                  </a:lnTo>
                  <a:lnTo>
                    <a:pt x="4388" y="15917"/>
                  </a:lnTo>
                  <a:lnTo>
                    <a:pt x="0" y="15486"/>
                  </a:lnTo>
                  <a:lnTo>
                    <a:pt x="298" y="16003"/>
                  </a:lnTo>
                  <a:lnTo>
                    <a:pt x="4924" y="16261"/>
                  </a:lnTo>
                  <a:lnTo>
                    <a:pt x="7713" y="17036"/>
                  </a:lnTo>
                  <a:lnTo>
                    <a:pt x="11217" y="18672"/>
                  </a:lnTo>
                  <a:lnTo>
                    <a:pt x="10621" y="18930"/>
                  </a:lnTo>
                  <a:lnTo>
                    <a:pt x="7058" y="21600"/>
                  </a:lnTo>
                  <a:lnTo>
                    <a:pt x="7594" y="21256"/>
                  </a:lnTo>
                  <a:lnTo>
                    <a:pt x="8547" y="20653"/>
                  </a:lnTo>
                  <a:lnTo>
                    <a:pt x="10145" y="19447"/>
                  </a:lnTo>
                  <a:lnTo>
                    <a:pt x="12051" y="18586"/>
                  </a:lnTo>
                  <a:lnTo>
                    <a:pt x="12577" y="17553"/>
                  </a:lnTo>
                  <a:lnTo>
                    <a:pt x="16200" y="14969"/>
                  </a:lnTo>
                  <a:lnTo>
                    <a:pt x="19168" y="13678"/>
                  </a:lnTo>
                  <a:lnTo>
                    <a:pt x="21600" y="11783"/>
                  </a:lnTo>
                  <a:lnTo>
                    <a:pt x="19466" y="13075"/>
                  </a:lnTo>
                  <a:lnTo>
                    <a:pt x="16438" y="14194"/>
                  </a:lnTo>
                  <a:lnTo>
                    <a:pt x="13292" y="16519"/>
                  </a:lnTo>
                  <a:lnTo>
                    <a:pt x="14900" y="12989"/>
                  </a:lnTo>
                  <a:lnTo>
                    <a:pt x="16081" y="7822"/>
                  </a:lnTo>
                  <a:lnTo>
                    <a:pt x="17272" y="5339"/>
                  </a:lnTo>
                  <a:lnTo>
                    <a:pt x="19644" y="861"/>
                  </a:lnTo>
                  <a:lnTo>
                    <a:pt x="19883" y="0"/>
                  </a:lnTo>
                  <a:lnTo>
                    <a:pt x="19585" y="0"/>
                  </a:lnTo>
                  <a:lnTo>
                    <a:pt x="15843" y="6889"/>
                  </a:lnTo>
                  <a:lnTo>
                    <a:pt x="14661" y="12730"/>
                  </a:lnTo>
                  <a:lnTo>
                    <a:pt x="12458" y="16864"/>
                  </a:lnTo>
                  <a:lnTo>
                    <a:pt x="11217" y="12989"/>
                  </a:lnTo>
                  <a:lnTo>
                    <a:pt x="10026" y="7750"/>
                  </a:lnTo>
                  <a:lnTo>
                    <a:pt x="8785" y="3186"/>
                  </a:lnTo>
                  <a:lnTo>
                    <a:pt x="7832" y="0"/>
                  </a:lnTo>
                  <a:lnTo>
                    <a:pt x="7475" y="0"/>
                  </a:lnTo>
                  <a:lnTo>
                    <a:pt x="8964" y="5081"/>
                  </a:lnTo>
                  <a:lnTo>
                    <a:pt x="10264" y="11008"/>
                  </a:lnTo>
                  <a:lnTo>
                    <a:pt x="10264" y="11008"/>
                  </a:lnTo>
                  <a:close/>
                  <a:moveTo>
                    <a:pt x="10264" y="11008"/>
                  </a:moveTo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0" y="1465200"/>
              <a:ext cx="1841400" cy="1819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4277" y="15152"/>
                  </a:moveTo>
                  <a:lnTo>
                    <a:pt x="8741" y="11767"/>
                  </a:lnTo>
                  <a:lnTo>
                    <a:pt x="17163" y="5803"/>
                  </a:lnTo>
                  <a:lnTo>
                    <a:pt x="21600" y="0"/>
                  </a:lnTo>
                  <a:lnTo>
                    <a:pt x="17960" y="4030"/>
                  </a:lnTo>
                  <a:lnTo>
                    <a:pt x="3826" y="13540"/>
                  </a:lnTo>
                  <a:lnTo>
                    <a:pt x="0" y="19666"/>
                  </a:lnTo>
                  <a:lnTo>
                    <a:pt x="0" y="21600"/>
                  </a:lnTo>
                  <a:lnTo>
                    <a:pt x="4277" y="15152"/>
                  </a:lnTo>
                  <a:lnTo>
                    <a:pt x="4277" y="15152"/>
                  </a:lnTo>
                  <a:close/>
                  <a:moveTo>
                    <a:pt x="4277" y="15152"/>
                  </a:moveTo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0" y="3487680"/>
              <a:ext cx="1719360" cy="241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3091" y="13323"/>
                  </a:moveTo>
                  <a:lnTo>
                    <a:pt x="21600" y="0"/>
                  </a:lnTo>
                  <a:lnTo>
                    <a:pt x="14115" y="7267"/>
                  </a:lnTo>
                  <a:lnTo>
                    <a:pt x="3927" y="9690"/>
                  </a:lnTo>
                  <a:lnTo>
                    <a:pt x="0" y="15746"/>
                  </a:lnTo>
                  <a:lnTo>
                    <a:pt x="0" y="21600"/>
                  </a:lnTo>
                  <a:lnTo>
                    <a:pt x="2732" y="17966"/>
                  </a:lnTo>
                  <a:lnTo>
                    <a:pt x="13091" y="13323"/>
                  </a:lnTo>
                  <a:lnTo>
                    <a:pt x="13091" y="13323"/>
                  </a:lnTo>
                  <a:close/>
                  <a:moveTo>
                    <a:pt x="13091" y="13323"/>
                  </a:moveTo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224320" y="7745400"/>
              <a:ext cx="7183440" cy="1682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454" y="6948"/>
                  </a:moveTo>
                  <a:lnTo>
                    <a:pt x="11819" y="6774"/>
                  </a:lnTo>
                  <a:lnTo>
                    <a:pt x="14225" y="7297"/>
                  </a:lnTo>
                  <a:lnTo>
                    <a:pt x="17074" y="6774"/>
                  </a:lnTo>
                  <a:lnTo>
                    <a:pt x="21600" y="5931"/>
                  </a:lnTo>
                  <a:lnTo>
                    <a:pt x="21232" y="5407"/>
                  </a:lnTo>
                  <a:lnTo>
                    <a:pt x="16508" y="6425"/>
                  </a:lnTo>
                  <a:lnTo>
                    <a:pt x="13653" y="6425"/>
                  </a:lnTo>
                  <a:lnTo>
                    <a:pt x="9945" y="5407"/>
                  </a:lnTo>
                  <a:lnTo>
                    <a:pt x="10517" y="4884"/>
                  </a:lnTo>
                  <a:lnTo>
                    <a:pt x="13898" y="0"/>
                  </a:lnTo>
                  <a:lnTo>
                    <a:pt x="13366" y="698"/>
                  </a:lnTo>
                  <a:lnTo>
                    <a:pt x="12514" y="1919"/>
                  </a:lnTo>
                  <a:lnTo>
                    <a:pt x="10919" y="4012"/>
                  </a:lnTo>
                  <a:lnTo>
                    <a:pt x="9127" y="5756"/>
                  </a:lnTo>
                  <a:lnTo>
                    <a:pt x="8643" y="7297"/>
                  </a:lnTo>
                  <a:lnTo>
                    <a:pt x="5214" y="12006"/>
                  </a:lnTo>
                  <a:lnTo>
                    <a:pt x="2283" y="14623"/>
                  </a:lnTo>
                  <a:lnTo>
                    <a:pt x="0" y="17937"/>
                  </a:lnTo>
                  <a:lnTo>
                    <a:pt x="2038" y="15669"/>
                  </a:lnTo>
                  <a:lnTo>
                    <a:pt x="5010" y="13053"/>
                  </a:lnTo>
                  <a:lnTo>
                    <a:pt x="8029" y="9041"/>
                  </a:lnTo>
                  <a:lnTo>
                    <a:pt x="6687" y="14274"/>
                  </a:lnTo>
                  <a:lnTo>
                    <a:pt x="5909" y="21600"/>
                  </a:lnTo>
                  <a:lnTo>
                    <a:pt x="5869" y="21600"/>
                  </a:lnTo>
                  <a:lnTo>
                    <a:pt x="6359" y="21600"/>
                  </a:lnTo>
                  <a:lnTo>
                    <a:pt x="6966" y="14448"/>
                  </a:lnTo>
                  <a:lnTo>
                    <a:pt x="8840" y="8169"/>
                  </a:lnTo>
                  <a:lnTo>
                    <a:pt x="10435" y="13053"/>
                  </a:lnTo>
                  <a:lnTo>
                    <a:pt x="12064" y="19681"/>
                  </a:lnTo>
                  <a:lnTo>
                    <a:pt x="12637" y="21600"/>
                  </a:lnTo>
                  <a:lnTo>
                    <a:pt x="13080" y="21600"/>
                  </a:lnTo>
                  <a:lnTo>
                    <a:pt x="11533" y="15321"/>
                  </a:lnTo>
                  <a:lnTo>
                    <a:pt x="9454" y="6948"/>
                  </a:lnTo>
                  <a:lnTo>
                    <a:pt x="9454" y="6948"/>
                  </a:lnTo>
                  <a:close/>
                  <a:moveTo>
                    <a:pt x="9454" y="6948"/>
                  </a:moveTo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31640" y="285840"/>
              <a:ext cx="1800" cy="32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60440" y="295200"/>
              <a:ext cx="1440" cy="180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0" y="9105840"/>
              <a:ext cx="13004640" cy="647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0" y="9105840"/>
              <a:ext cx="13004640" cy="762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0" y="0"/>
              <a:ext cx="13004640" cy="647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0" y="0"/>
                  </a:lnTo>
                  <a:lnTo>
                    <a:pt x="21600" y="0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Reality</a:t>
              </a:r>
              <a:endParaRPr b="0" lang="en-US" sz="3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7680" y="514440"/>
              <a:ext cx="7197840" cy="4573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5861" y="15250"/>
                  </a:moveTo>
                  <a:lnTo>
                    <a:pt x="5901" y="15186"/>
                  </a:lnTo>
                  <a:lnTo>
                    <a:pt x="6023" y="15058"/>
                  </a:lnTo>
                  <a:lnTo>
                    <a:pt x="6145" y="14866"/>
                  </a:lnTo>
                  <a:lnTo>
                    <a:pt x="6349" y="14610"/>
                  </a:lnTo>
                  <a:lnTo>
                    <a:pt x="6714" y="14087"/>
                  </a:lnTo>
                  <a:lnTo>
                    <a:pt x="6877" y="13970"/>
                  </a:lnTo>
                  <a:lnTo>
                    <a:pt x="6999" y="13842"/>
                  </a:lnTo>
                  <a:lnTo>
                    <a:pt x="7162" y="13649"/>
                  </a:lnTo>
                  <a:lnTo>
                    <a:pt x="7358" y="13329"/>
                  </a:lnTo>
                  <a:lnTo>
                    <a:pt x="7527" y="13073"/>
                  </a:lnTo>
                  <a:lnTo>
                    <a:pt x="7609" y="13009"/>
                  </a:lnTo>
                  <a:lnTo>
                    <a:pt x="7609" y="12945"/>
                  </a:lnTo>
                  <a:lnTo>
                    <a:pt x="7162" y="12305"/>
                  </a:lnTo>
                  <a:lnTo>
                    <a:pt x="6633" y="11216"/>
                  </a:lnTo>
                  <a:lnTo>
                    <a:pt x="5942" y="10896"/>
                  </a:lnTo>
                  <a:lnTo>
                    <a:pt x="4641" y="9936"/>
                  </a:lnTo>
                  <a:lnTo>
                    <a:pt x="4438" y="9679"/>
                  </a:lnTo>
                  <a:lnTo>
                    <a:pt x="4885" y="9349"/>
                  </a:lnTo>
                  <a:lnTo>
                    <a:pt x="4438" y="9028"/>
                  </a:lnTo>
                  <a:lnTo>
                    <a:pt x="4147" y="8260"/>
                  </a:lnTo>
                  <a:lnTo>
                    <a:pt x="4357" y="7556"/>
                  </a:lnTo>
                  <a:lnTo>
                    <a:pt x="4065" y="7043"/>
                  </a:lnTo>
                  <a:lnTo>
                    <a:pt x="3740" y="6851"/>
                  </a:lnTo>
                  <a:lnTo>
                    <a:pt x="3577" y="6339"/>
                  </a:lnTo>
                  <a:lnTo>
                    <a:pt x="3455" y="6083"/>
                  </a:lnTo>
                  <a:lnTo>
                    <a:pt x="3740" y="5891"/>
                  </a:lnTo>
                  <a:lnTo>
                    <a:pt x="4316" y="6019"/>
                  </a:lnTo>
                  <a:lnTo>
                    <a:pt x="4885" y="6147"/>
                  </a:lnTo>
                  <a:lnTo>
                    <a:pt x="5170" y="6083"/>
                  </a:lnTo>
                  <a:lnTo>
                    <a:pt x="6308" y="7428"/>
                  </a:lnTo>
                  <a:lnTo>
                    <a:pt x="7392" y="9071"/>
                  </a:lnTo>
                  <a:lnTo>
                    <a:pt x="7270" y="7310"/>
                  </a:lnTo>
                  <a:lnTo>
                    <a:pt x="6836" y="6040"/>
                  </a:lnTo>
                  <a:lnTo>
                    <a:pt x="6403" y="4194"/>
                  </a:lnTo>
                  <a:lnTo>
                    <a:pt x="7141" y="2828"/>
                  </a:lnTo>
                  <a:lnTo>
                    <a:pt x="7704" y="480"/>
                  </a:lnTo>
                  <a:lnTo>
                    <a:pt x="8462" y="0"/>
                  </a:lnTo>
                  <a:lnTo>
                    <a:pt x="9065" y="1462"/>
                  </a:lnTo>
                  <a:lnTo>
                    <a:pt x="9933" y="3116"/>
                  </a:lnTo>
                  <a:lnTo>
                    <a:pt x="10177" y="4386"/>
                  </a:lnTo>
                  <a:lnTo>
                    <a:pt x="9994" y="5848"/>
                  </a:lnTo>
                  <a:lnTo>
                    <a:pt x="9126" y="8196"/>
                  </a:lnTo>
                  <a:lnTo>
                    <a:pt x="10617" y="6723"/>
                  </a:lnTo>
                  <a:lnTo>
                    <a:pt x="11430" y="4930"/>
                  </a:lnTo>
                  <a:lnTo>
                    <a:pt x="12162" y="3895"/>
                  </a:lnTo>
                  <a:lnTo>
                    <a:pt x="13144" y="2551"/>
                  </a:lnTo>
                  <a:lnTo>
                    <a:pt x="15211" y="1601"/>
                  </a:lnTo>
                  <a:lnTo>
                    <a:pt x="16925" y="1473"/>
                  </a:lnTo>
                  <a:lnTo>
                    <a:pt x="17738" y="1921"/>
                  </a:lnTo>
                  <a:lnTo>
                    <a:pt x="19073" y="1473"/>
                  </a:lnTo>
                  <a:lnTo>
                    <a:pt x="20665" y="1601"/>
                  </a:lnTo>
                  <a:lnTo>
                    <a:pt x="21519" y="1793"/>
                  </a:lnTo>
                  <a:lnTo>
                    <a:pt x="21275" y="2241"/>
                  </a:lnTo>
                  <a:lnTo>
                    <a:pt x="21112" y="2049"/>
                  </a:lnTo>
                  <a:lnTo>
                    <a:pt x="20258" y="2241"/>
                  </a:lnTo>
                  <a:lnTo>
                    <a:pt x="19689" y="2807"/>
                  </a:lnTo>
                  <a:lnTo>
                    <a:pt x="19202" y="4023"/>
                  </a:lnTo>
                  <a:lnTo>
                    <a:pt x="18754" y="5699"/>
                  </a:lnTo>
                  <a:lnTo>
                    <a:pt x="18307" y="6915"/>
                  </a:lnTo>
                  <a:lnTo>
                    <a:pt x="18551" y="7748"/>
                  </a:lnTo>
                  <a:lnTo>
                    <a:pt x="17494" y="8836"/>
                  </a:lnTo>
                  <a:lnTo>
                    <a:pt x="16559" y="9743"/>
                  </a:lnTo>
                  <a:lnTo>
                    <a:pt x="15136" y="10768"/>
                  </a:lnTo>
                  <a:lnTo>
                    <a:pt x="14201" y="11344"/>
                  </a:lnTo>
                  <a:lnTo>
                    <a:pt x="13300" y="11472"/>
                  </a:lnTo>
                  <a:lnTo>
                    <a:pt x="13788" y="11921"/>
                  </a:lnTo>
                  <a:lnTo>
                    <a:pt x="15292" y="11857"/>
                  </a:lnTo>
                  <a:lnTo>
                    <a:pt x="17243" y="12113"/>
                  </a:lnTo>
                  <a:lnTo>
                    <a:pt x="17616" y="12881"/>
                  </a:lnTo>
                  <a:lnTo>
                    <a:pt x="18470" y="13906"/>
                  </a:lnTo>
                  <a:lnTo>
                    <a:pt x="19608" y="15378"/>
                  </a:lnTo>
                  <a:lnTo>
                    <a:pt x="20218" y="15698"/>
                  </a:lnTo>
                  <a:lnTo>
                    <a:pt x="21153" y="16595"/>
                  </a:lnTo>
                  <a:lnTo>
                    <a:pt x="21600" y="16467"/>
                  </a:lnTo>
                  <a:lnTo>
                    <a:pt x="20543" y="16915"/>
                  </a:lnTo>
                  <a:lnTo>
                    <a:pt x="20502" y="16915"/>
                  </a:lnTo>
                  <a:lnTo>
                    <a:pt x="20380" y="16979"/>
                  </a:lnTo>
                  <a:lnTo>
                    <a:pt x="20218" y="16979"/>
                  </a:lnTo>
                  <a:lnTo>
                    <a:pt x="20055" y="17043"/>
                  </a:lnTo>
                  <a:lnTo>
                    <a:pt x="19689" y="17107"/>
                  </a:lnTo>
                  <a:lnTo>
                    <a:pt x="19527" y="17171"/>
                  </a:lnTo>
                  <a:lnTo>
                    <a:pt x="19405" y="17171"/>
                  </a:lnTo>
                  <a:lnTo>
                    <a:pt x="19283" y="17171"/>
                  </a:lnTo>
                  <a:lnTo>
                    <a:pt x="19161" y="17171"/>
                  </a:lnTo>
                  <a:lnTo>
                    <a:pt x="18795" y="17235"/>
                  </a:lnTo>
                  <a:lnTo>
                    <a:pt x="18632" y="17235"/>
                  </a:lnTo>
                  <a:lnTo>
                    <a:pt x="18470" y="17299"/>
                  </a:lnTo>
                  <a:lnTo>
                    <a:pt x="18388" y="17299"/>
                  </a:lnTo>
                  <a:lnTo>
                    <a:pt x="18348" y="17299"/>
                  </a:lnTo>
                  <a:lnTo>
                    <a:pt x="17657" y="17683"/>
                  </a:lnTo>
                  <a:lnTo>
                    <a:pt x="17575" y="17683"/>
                  </a:lnTo>
                  <a:lnTo>
                    <a:pt x="17406" y="17683"/>
                  </a:lnTo>
                  <a:lnTo>
                    <a:pt x="17162" y="17747"/>
                  </a:lnTo>
                  <a:lnTo>
                    <a:pt x="16844" y="17811"/>
                  </a:lnTo>
                  <a:lnTo>
                    <a:pt x="16559" y="17875"/>
                  </a:lnTo>
                  <a:lnTo>
                    <a:pt x="16315" y="17940"/>
                  </a:lnTo>
                  <a:lnTo>
                    <a:pt x="16112" y="18004"/>
                  </a:lnTo>
                  <a:lnTo>
                    <a:pt x="16031" y="18132"/>
                  </a:lnTo>
                  <a:lnTo>
                    <a:pt x="15990" y="18196"/>
                  </a:lnTo>
                  <a:lnTo>
                    <a:pt x="15868" y="18196"/>
                  </a:lnTo>
                  <a:lnTo>
                    <a:pt x="15617" y="18004"/>
                  </a:lnTo>
                  <a:lnTo>
                    <a:pt x="15414" y="17811"/>
                  </a:lnTo>
                  <a:lnTo>
                    <a:pt x="15333" y="17747"/>
                  </a:lnTo>
                  <a:lnTo>
                    <a:pt x="15292" y="17683"/>
                  </a:lnTo>
                  <a:lnTo>
                    <a:pt x="13666" y="16915"/>
                  </a:lnTo>
                  <a:lnTo>
                    <a:pt x="12494" y="15891"/>
                  </a:lnTo>
                  <a:lnTo>
                    <a:pt x="11593" y="15506"/>
                  </a:lnTo>
                  <a:lnTo>
                    <a:pt x="12575" y="18068"/>
                  </a:lnTo>
                  <a:lnTo>
                    <a:pt x="12738" y="19679"/>
                  </a:lnTo>
                  <a:lnTo>
                    <a:pt x="12575" y="21280"/>
                  </a:lnTo>
                  <a:lnTo>
                    <a:pt x="11999" y="20511"/>
                  </a:lnTo>
                  <a:lnTo>
                    <a:pt x="10949" y="19156"/>
                  </a:lnTo>
                  <a:lnTo>
                    <a:pt x="10373" y="18708"/>
                  </a:lnTo>
                  <a:lnTo>
                    <a:pt x="10048" y="17427"/>
                  </a:lnTo>
                  <a:lnTo>
                    <a:pt x="9560" y="15762"/>
                  </a:lnTo>
                  <a:lnTo>
                    <a:pt x="9201" y="14738"/>
                  </a:lnTo>
                  <a:lnTo>
                    <a:pt x="8259" y="13777"/>
                  </a:lnTo>
                  <a:lnTo>
                    <a:pt x="7771" y="13649"/>
                  </a:lnTo>
                  <a:lnTo>
                    <a:pt x="860" y="21408"/>
                  </a:lnTo>
                  <a:lnTo>
                    <a:pt x="0" y="21600"/>
                  </a:lnTo>
                  <a:lnTo>
                    <a:pt x="5861" y="15250"/>
                  </a:lnTo>
                  <a:lnTo>
                    <a:pt x="5861" y="15250"/>
                  </a:lnTo>
                  <a:close/>
                  <a:moveTo>
                    <a:pt x="5861" y="15250"/>
                  </a:moveTo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035160" y="660240"/>
              <a:ext cx="4838760" cy="403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204" y="13030"/>
                  </a:moveTo>
                  <a:lnTo>
                    <a:pt x="2186" y="11217"/>
                  </a:lnTo>
                  <a:lnTo>
                    <a:pt x="1028" y="9767"/>
                  </a:lnTo>
                  <a:lnTo>
                    <a:pt x="363" y="8969"/>
                  </a:lnTo>
                  <a:lnTo>
                    <a:pt x="0" y="8461"/>
                  </a:lnTo>
                  <a:lnTo>
                    <a:pt x="2720" y="11580"/>
                  </a:lnTo>
                  <a:lnTo>
                    <a:pt x="2962" y="12160"/>
                  </a:lnTo>
                  <a:lnTo>
                    <a:pt x="3697" y="8098"/>
                  </a:lnTo>
                  <a:lnTo>
                    <a:pt x="3818" y="4968"/>
                  </a:lnTo>
                  <a:lnTo>
                    <a:pt x="3496" y="1426"/>
                  </a:lnTo>
                  <a:lnTo>
                    <a:pt x="3959" y="0"/>
                  </a:lnTo>
                  <a:lnTo>
                    <a:pt x="4000" y="4315"/>
                  </a:lnTo>
                  <a:lnTo>
                    <a:pt x="4241" y="7361"/>
                  </a:lnTo>
                  <a:lnTo>
                    <a:pt x="3879" y="9984"/>
                  </a:lnTo>
                  <a:lnTo>
                    <a:pt x="3879" y="12522"/>
                  </a:lnTo>
                  <a:lnTo>
                    <a:pt x="8835" y="9476"/>
                  </a:lnTo>
                  <a:lnTo>
                    <a:pt x="13188" y="6708"/>
                  </a:lnTo>
                  <a:lnTo>
                    <a:pt x="18154" y="3010"/>
                  </a:lnTo>
                  <a:lnTo>
                    <a:pt x="21116" y="834"/>
                  </a:lnTo>
                  <a:lnTo>
                    <a:pt x="18275" y="3372"/>
                  </a:lnTo>
                  <a:lnTo>
                    <a:pt x="14638" y="6056"/>
                  </a:lnTo>
                  <a:lnTo>
                    <a:pt x="11314" y="8461"/>
                  </a:lnTo>
                  <a:lnTo>
                    <a:pt x="7445" y="10854"/>
                  </a:lnTo>
                  <a:lnTo>
                    <a:pt x="4665" y="13103"/>
                  </a:lnTo>
                  <a:lnTo>
                    <a:pt x="8231" y="14420"/>
                  </a:lnTo>
                  <a:lnTo>
                    <a:pt x="12946" y="14348"/>
                  </a:lnTo>
                  <a:lnTo>
                    <a:pt x="19303" y="16874"/>
                  </a:lnTo>
                  <a:lnTo>
                    <a:pt x="21600" y="17164"/>
                  </a:lnTo>
                  <a:lnTo>
                    <a:pt x="18275" y="17019"/>
                  </a:lnTo>
                  <a:lnTo>
                    <a:pt x="14457" y="15568"/>
                  </a:lnTo>
                  <a:lnTo>
                    <a:pt x="12281" y="14855"/>
                  </a:lnTo>
                  <a:lnTo>
                    <a:pt x="8050" y="14783"/>
                  </a:lnTo>
                  <a:lnTo>
                    <a:pt x="5088" y="13840"/>
                  </a:lnTo>
                  <a:lnTo>
                    <a:pt x="7385" y="16656"/>
                  </a:lnTo>
                  <a:lnTo>
                    <a:pt x="8835" y="19569"/>
                  </a:lnTo>
                  <a:lnTo>
                    <a:pt x="10165" y="21600"/>
                  </a:lnTo>
                  <a:lnTo>
                    <a:pt x="8231" y="19424"/>
                  </a:lnTo>
                  <a:lnTo>
                    <a:pt x="6780" y="16584"/>
                  </a:lnTo>
                  <a:lnTo>
                    <a:pt x="4181" y="13405"/>
                  </a:lnTo>
                  <a:lnTo>
                    <a:pt x="3204" y="13030"/>
                  </a:lnTo>
                  <a:lnTo>
                    <a:pt x="3204" y="13030"/>
                  </a:lnTo>
                  <a:close/>
                  <a:moveTo>
                    <a:pt x="3204" y="13030"/>
                  </a:moveTo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618240" y="3898800"/>
              <a:ext cx="6386400" cy="5340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322" y="7623"/>
                  </a:moveTo>
                  <a:lnTo>
                    <a:pt x="14306" y="6527"/>
                  </a:lnTo>
                  <a:lnTo>
                    <a:pt x="13855" y="5532"/>
                  </a:lnTo>
                  <a:lnTo>
                    <a:pt x="13343" y="3999"/>
                  </a:lnTo>
                  <a:lnTo>
                    <a:pt x="12977" y="2848"/>
                  </a:lnTo>
                  <a:lnTo>
                    <a:pt x="12335" y="2301"/>
                  </a:lnTo>
                  <a:lnTo>
                    <a:pt x="11098" y="767"/>
                  </a:lnTo>
                  <a:lnTo>
                    <a:pt x="10502" y="0"/>
                  </a:lnTo>
                  <a:lnTo>
                    <a:pt x="10273" y="1205"/>
                  </a:lnTo>
                  <a:lnTo>
                    <a:pt x="10456" y="2684"/>
                  </a:lnTo>
                  <a:lnTo>
                    <a:pt x="11556" y="5094"/>
                  </a:lnTo>
                  <a:lnTo>
                    <a:pt x="10548" y="4492"/>
                  </a:lnTo>
                  <a:lnTo>
                    <a:pt x="9173" y="3287"/>
                  </a:lnTo>
                  <a:lnTo>
                    <a:pt x="7340" y="2072"/>
                  </a:lnTo>
                  <a:lnTo>
                    <a:pt x="7294" y="2018"/>
                  </a:lnTo>
                  <a:lnTo>
                    <a:pt x="7248" y="1963"/>
                  </a:lnTo>
                  <a:lnTo>
                    <a:pt x="6973" y="1689"/>
                  </a:lnTo>
                  <a:lnTo>
                    <a:pt x="6698" y="1470"/>
                  </a:lnTo>
                  <a:lnTo>
                    <a:pt x="6561" y="1424"/>
                  </a:lnTo>
                  <a:lnTo>
                    <a:pt x="6515" y="1470"/>
                  </a:lnTo>
                  <a:lnTo>
                    <a:pt x="6423" y="1525"/>
                  </a:lnTo>
                  <a:lnTo>
                    <a:pt x="6187" y="1579"/>
                  </a:lnTo>
                  <a:lnTo>
                    <a:pt x="5866" y="1525"/>
                  </a:lnTo>
                  <a:lnTo>
                    <a:pt x="5499" y="1470"/>
                  </a:lnTo>
                  <a:lnTo>
                    <a:pt x="5179" y="1424"/>
                  </a:lnTo>
                  <a:lnTo>
                    <a:pt x="4865" y="1369"/>
                  </a:lnTo>
                  <a:lnTo>
                    <a:pt x="4682" y="1315"/>
                  </a:lnTo>
                  <a:lnTo>
                    <a:pt x="4590" y="1315"/>
                  </a:lnTo>
                  <a:lnTo>
                    <a:pt x="3804" y="1470"/>
                  </a:lnTo>
                  <a:lnTo>
                    <a:pt x="3758" y="1470"/>
                  </a:lnTo>
                  <a:lnTo>
                    <a:pt x="3666" y="1424"/>
                  </a:lnTo>
                  <a:lnTo>
                    <a:pt x="3483" y="1424"/>
                  </a:lnTo>
                  <a:lnTo>
                    <a:pt x="3300" y="1369"/>
                  </a:lnTo>
                  <a:lnTo>
                    <a:pt x="2895" y="1315"/>
                  </a:lnTo>
                  <a:lnTo>
                    <a:pt x="2757" y="1260"/>
                  </a:lnTo>
                  <a:lnTo>
                    <a:pt x="2612" y="1260"/>
                  </a:lnTo>
                  <a:lnTo>
                    <a:pt x="2475" y="1260"/>
                  </a:lnTo>
                  <a:lnTo>
                    <a:pt x="2291" y="1205"/>
                  </a:lnTo>
                  <a:lnTo>
                    <a:pt x="1879" y="1150"/>
                  </a:lnTo>
                  <a:lnTo>
                    <a:pt x="1650" y="1096"/>
                  </a:lnTo>
                  <a:lnTo>
                    <a:pt x="1466" y="1096"/>
                  </a:lnTo>
                  <a:lnTo>
                    <a:pt x="1329" y="1041"/>
                  </a:lnTo>
                  <a:lnTo>
                    <a:pt x="1283" y="1041"/>
                  </a:lnTo>
                  <a:lnTo>
                    <a:pt x="46" y="1096"/>
                  </a:lnTo>
                  <a:lnTo>
                    <a:pt x="1650" y="2191"/>
                  </a:lnTo>
                  <a:lnTo>
                    <a:pt x="2337" y="2684"/>
                  </a:lnTo>
                  <a:lnTo>
                    <a:pt x="3666" y="4218"/>
                  </a:lnTo>
                  <a:lnTo>
                    <a:pt x="4636" y="5368"/>
                  </a:lnTo>
                  <a:lnTo>
                    <a:pt x="5003" y="6135"/>
                  </a:lnTo>
                  <a:lnTo>
                    <a:pt x="7248" y="7020"/>
                  </a:lnTo>
                  <a:lnTo>
                    <a:pt x="8990" y="7459"/>
                  </a:lnTo>
                  <a:lnTo>
                    <a:pt x="9540" y="7952"/>
                  </a:lnTo>
                  <a:lnTo>
                    <a:pt x="8532" y="7787"/>
                  </a:lnTo>
                  <a:lnTo>
                    <a:pt x="7424" y="7952"/>
                  </a:lnTo>
                  <a:lnTo>
                    <a:pt x="5774" y="8390"/>
                  </a:lnTo>
                  <a:lnTo>
                    <a:pt x="4728" y="8773"/>
                  </a:lnTo>
                  <a:lnTo>
                    <a:pt x="3758" y="10143"/>
                  </a:lnTo>
                  <a:lnTo>
                    <a:pt x="3208" y="11083"/>
                  </a:lnTo>
                  <a:lnTo>
                    <a:pt x="2658" y="12279"/>
                  </a:lnTo>
                  <a:lnTo>
                    <a:pt x="2108" y="13155"/>
                  </a:lnTo>
                  <a:lnTo>
                    <a:pt x="1466" y="13429"/>
                  </a:lnTo>
                  <a:lnTo>
                    <a:pt x="504" y="13374"/>
                  </a:lnTo>
                  <a:lnTo>
                    <a:pt x="321" y="13155"/>
                  </a:lnTo>
                  <a:lnTo>
                    <a:pt x="0" y="13429"/>
                  </a:lnTo>
                  <a:lnTo>
                    <a:pt x="962" y="13867"/>
                  </a:lnTo>
                  <a:lnTo>
                    <a:pt x="2803" y="14470"/>
                  </a:lnTo>
                  <a:lnTo>
                    <a:pt x="4354" y="14525"/>
                  </a:lnTo>
                  <a:lnTo>
                    <a:pt x="5270" y="15191"/>
                  </a:lnTo>
                  <a:lnTo>
                    <a:pt x="7248" y="15629"/>
                  </a:lnTo>
                  <a:lnTo>
                    <a:pt x="9624" y="15465"/>
                  </a:lnTo>
                  <a:lnTo>
                    <a:pt x="10777" y="14634"/>
                  </a:lnTo>
                  <a:lnTo>
                    <a:pt x="11602" y="14032"/>
                  </a:lnTo>
                  <a:lnTo>
                    <a:pt x="12564" y="12772"/>
                  </a:lnTo>
                  <a:lnTo>
                    <a:pt x="12977" y="12662"/>
                  </a:lnTo>
                  <a:lnTo>
                    <a:pt x="13252" y="13813"/>
                  </a:lnTo>
                  <a:lnTo>
                    <a:pt x="13206" y="14306"/>
                  </a:lnTo>
                  <a:lnTo>
                    <a:pt x="13160" y="15246"/>
                  </a:lnTo>
                  <a:lnTo>
                    <a:pt x="13160" y="16451"/>
                  </a:lnTo>
                  <a:lnTo>
                    <a:pt x="13985" y="17930"/>
                  </a:lnTo>
                  <a:lnTo>
                    <a:pt x="14947" y="19080"/>
                  </a:lnTo>
                  <a:lnTo>
                    <a:pt x="15597" y="20349"/>
                  </a:lnTo>
                  <a:lnTo>
                    <a:pt x="16460" y="21600"/>
                  </a:lnTo>
                  <a:lnTo>
                    <a:pt x="16506" y="20952"/>
                  </a:lnTo>
                  <a:lnTo>
                    <a:pt x="16735" y="19473"/>
                  </a:lnTo>
                  <a:lnTo>
                    <a:pt x="16918" y="18697"/>
                  </a:lnTo>
                  <a:lnTo>
                    <a:pt x="17246" y="18642"/>
                  </a:lnTo>
                  <a:lnTo>
                    <a:pt x="17338" y="17985"/>
                  </a:lnTo>
                  <a:lnTo>
                    <a:pt x="17888" y="17054"/>
                  </a:lnTo>
                  <a:lnTo>
                    <a:pt x="17750" y="15958"/>
                  </a:lnTo>
                  <a:lnTo>
                    <a:pt x="17055" y="14360"/>
                  </a:lnTo>
                  <a:lnTo>
                    <a:pt x="16872" y="13265"/>
                  </a:lnTo>
                  <a:lnTo>
                    <a:pt x="16872" y="12279"/>
                  </a:lnTo>
                  <a:lnTo>
                    <a:pt x="17521" y="13539"/>
                  </a:lnTo>
                  <a:lnTo>
                    <a:pt x="18797" y="15073"/>
                  </a:lnTo>
                  <a:lnTo>
                    <a:pt x="19125" y="15073"/>
                  </a:lnTo>
                  <a:lnTo>
                    <a:pt x="19767" y="15410"/>
                  </a:lnTo>
                  <a:lnTo>
                    <a:pt x="20454" y="15684"/>
                  </a:lnTo>
                  <a:lnTo>
                    <a:pt x="20775" y="15629"/>
                  </a:lnTo>
                  <a:lnTo>
                    <a:pt x="20584" y="15356"/>
                  </a:lnTo>
                  <a:lnTo>
                    <a:pt x="20454" y="14853"/>
                  </a:lnTo>
                  <a:lnTo>
                    <a:pt x="20088" y="14580"/>
                  </a:lnTo>
                  <a:lnTo>
                    <a:pt x="19767" y="14087"/>
                  </a:lnTo>
                  <a:lnTo>
                    <a:pt x="19996" y="13539"/>
                  </a:lnTo>
                  <a:lnTo>
                    <a:pt x="19675" y="12772"/>
                  </a:lnTo>
                  <a:lnTo>
                    <a:pt x="19171" y="12389"/>
                  </a:lnTo>
                  <a:lnTo>
                    <a:pt x="19675" y="12334"/>
                  </a:lnTo>
                  <a:lnTo>
                    <a:pt x="19492" y="12005"/>
                  </a:lnTo>
                  <a:lnTo>
                    <a:pt x="17980" y="10809"/>
                  </a:lnTo>
                  <a:lnTo>
                    <a:pt x="17201" y="10252"/>
                  </a:lnTo>
                  <a:lnTo>
                    <a:pt x="16597" y="9211"/>
                  </a:lnTo>
                  <a:lnTo>
                    <a:pt x="16055" y="8499"/>
                  </a:lnTo>
                  <a:lnTo>
                    <a:pt x="16101" y="8499"/>
                  </a:lnTo>
                  <a:lnTo>
                    <a:pt x="16147" y="8445"/>
                  </a:lnTo>
                  <a:lnTo>
                    <a:pt x="16322" y="8280"/>
                  </a:lnTo>
                  <a:lnTo>
                    <a:pt x="16551" y="8061"/>
                  </a:lnTo>
                  <a:lnTo>
                    <a:pt x="16780" y="8006"/>
                  </a:lnTo>
                  <a:lnTo>
                    <a:pt x="16918" y="7952"/>
                  </a:lnTo>
                  <a:lnTo>
                    <a:pt x="17109" y="7842"/>
                  </a:lnTo>
                  <a:lnTo>
                    <a:pt x="17567" y="7568"/>
                  </a:lnTo>
                  <a:lnTo>
                    <a:pt x="17750" y="7459"/>
                  </a:lnTo>
                  <a:lnTo>
                    <a:pt x="17934" y="7294"/>
                  </a:lnTo>
                  <a:lnTo>
                    <a:pt x="18071" y="7240"/>
                  </a:lnTo>
                  <a:lnTo>
                    <a:pt x="18117" y="7185"/>
                  </a:lnTo>
                  <a:lnTo>
                    <a:pt x="21600" y="5368"/>
                  </a:lnTo>
                  <a:lnTo>
                    <a:pt x="21600" y="4820"/>
                  </a:lnTo>
                  <a:lnTo>
                    <a:pt x="15872" y="7897"/>
                  </a:lnTo>
                  <a:lnTo>
                    <a:pt x="15322" y="7623"/>
                  </a:lnTo>
                  <a:lnTo>
                    <a:pt x="15322" y="7623"/>
                  </a:lnTo>
                  <a:close/>
                  <a:moveTo>
                    <a:pt x="15322" y="7623"/>
                  </a:moveTo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137360" y="4199040"/>
              <a:ext cx="4880160" cy="436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480" y="9524"/>
                  </a:moveTo>
                  <a:lnTo>
                    <a:pt x="19433" y="11404"/>
                  </a:lnTo>
                  <a:lnTo>
                    <a:pt x="20577" y="13072"/>
                  </a:lnTo>
                  <a:lnTo>
                    <a:pt x="21239" y="13945"/>
                  </a:lnTo>
                  <a:lnTo>
                    <a:pt x="21600" y="14482"/>
                  </a:lnTo>
                  <a:lnTo>
                    <a:pt x="18951" y="10934"/>
                  </a:lnTo>
                  <a:lnTo>
                    <a:pt x="18660" y="10397"/>
                  </a:lnTo>
                  <a:lnTo>
                    <a:pt x="17878" y="13878"/>
                  </a:lnTo>
                  <a:lnTo>
                    <a:pt x="17758" y="16631"/>
                  </a:lnTo>
                  <a:lnTo>
                    <a:pt x="18239" y="21331"/>
                  </a:lnTo>
                  <a:lnTo>
                    <a:pt x="17938" y="21600"/>
                  </a:lnTo>
                  <a:lnTo>
                    <a:pt x="17517" y="17168"/>
                  </a:lnTo>
                  <a:lnTo>
                    <a:pt x="17336" y="14415"/>
                  </a:lnTo>
                  <a:lnTo>
                    <a:pt x="17697" y="12143"/>
                  </a:lnTo>
                  <a:lnTo>
                    <a:pt x="17758" y="9793"/>
                  </a:lnTo>
                  <a:lnTo>
                    <a:pt x="12721" y="11270"/>
                  </a:lnTo>
                  <a:lnTo>
                    <a:pt x="8277" y="12669"/>
                  </a:lnTo>
                  <a:lnTo>
                    <a:pt x="3241" y="14684"/>
                  </a:lnTo>
                  <a:lnTo>
                    <a:pt x="181" y="15892"/>
                  </a:lnTo>
                  <a:lnTo>
                    <a:pt x="3120" y="14348"/>
                  </a:lnTo>
                  <a:lnTo>
                    <a:pt x="6842" y="12803"/>
                  </a:lnTo>
                  <a:lnTo>
                    <a:pt x="10253" y="11606"/>
                  </a:lnTo>
                  <a:lnTo>
                    <a:pt x="14156" y="10397"/>
                  </a:lnTo>
                  <a:lnTo>
                    <a:pt x="16975" y="9121"/>
                  </a:lnTo>
                  <a:lnTo>
                    <a:pt x="13373" y="6972"/>
                  </a:lnTo>
                  <a:lnTo>
                    <a:pt x="8638" y="5764"/>
                  </a:lnTo>
                  <a:lnTo>
                    <a:pt x="2277" y="1802"/>
                  </a:lnTo>
                  <a:lnTo>
                    <a:pt x="0" y="929"/>
                  </a:lnTo>
                  <a:lnTo>
                    <a:pt x="3301" y="2003"/>
                  </a:lnTo>
                  <a:lnTo>
                    <a:pt x="7143" y="4286"/>
                  </a:lnTo>
                  <a:lnTo>
                    <a:pt x="9360" y="5495"/>
                  </a:lnTo>
                  <a:lnTo>
                    <a:pt x="13554" y="6637"/>
                  </a:lnTo>
                  <a:lnTo>
                    <a:pt x="16554" y="8315"/>
                  </a:lnTo>
                  <a:lnTo>
                    <a:pt x="14276" y="5159"/>
                  </a:lnTo>
                  <a:lnTo>
                    <a:pt x="12902" y="2138"/>
                  </a:lnTo>
                  <a:lnTo>
                    <a:pt x="11578" y="0"/>
                  </a:lnTo>
                  <a:lnTo>
                    <a:pt x="13434" y="2406"/>
                  </a:lnTo>
                  <a:lnTo>
                    <a:pt x="14938" y="5428"/>
                  </a:lnTo>
                  <a:lnTo>
                    <a:pt x="17517" y="8987"/>
                  </a:lnTo>
                  <a:lnTo>
                    <a:pt x="18480" y="9524"/>
                  </a:lnTo>
                  <a:lnTo>
                    <a:pt x="18480" y="9524"/>
                  </a:lnTo>
                  <a:close/>
                  <a:moveTo>
                    <a:pt x="18480" y="9524"/>
                  </a:moveTo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7037280" y="1995480"/>
            <a:ext cx="5361120" cy="7027920"/>
          </a:xfrm>
          <a:prstGeom prst="rect">
            <a:avLst/>
          </a:prstGeom>
          <a:solidFill>
            <a:srgbClr val="feec94"/>
          </a:solidFill>
          <a:ln w="381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609120" y="837720"/>
            <a:ext cx="6093000" cy="7480440"/>
          </a:xfrm>
          <a:prstGeom prst="rect">
            <a:avLst/>
          </a:prstGeom>
          <a:noFill/>
          <a:ln w="0">
            <a:noFill/>
          </a:ln>
        </p:spPr>
        <p:txBody>
          <a:bodyPr lIns="50760" rIns="14040" tIns="50760" bIns="50760" anchor="ctr">
            <a:normAutofit/>
          </a:bodyPr>
          <a:p>
            <a:pPr marL="382680" indent="-343080">
              <a:lnSpc>
                <a:spcPct val="90000"/>
              </a:lnSpc>
              <a:spcBef>
                <a:spcPts val="4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n reality, life in the Middle Ages, a period that extended from approximately the 5</a:t>
            </a:r>
            <a:r>
              <a:rPr b="0" lang="en-US" sz="4200" spc="-1" strike="noStrike" baseline="31000">
                <a:solidFill>
                  <a:srgbClr val="ffffff"/>
                </a:solidFill>
                <a:latin typeface="Gill Sans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century to the 15th century in Western Europe, could also be harsh, uncertain, and dangerous. 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7155000" y="2136600"/>
            <a:ext cx="5079960" cy="677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431640" y="164880"/>
            <a:ext cx="11303280" cy="8318520"/>
          </a:xfrm>
          <a:prstGeom prst="rect">
            <a:avLst/>
          </a:prstGeom>
          <a:noFill/>
          <a:ln w="0">
            <a:noFill/>
          </a:ln>
        </p:spPr>
        <p:txBody>
          <a:bodyPr lIns="50760" rIns="14040" tIns="50760" bIns="50760" anchor="ctr">
            <a:normAutofit/>
          </a:bodyPr>
          <a:p>
            <a:pPr marL="382680" indent="-343080" algn="ctr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dcc"/>
                </a:solidFill>
                <a:latin typeface="Gill Sans"/>
              </a:rPr>
              <a:t>Why is it called the Middle Ages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90b00"/>
                </a:solidFill>
                <a:latin typeface="Gill Sans"/>
              </a:rPr>
              <a:t>It refers to the time between the last Roman Emperor and the beginnings of the modern world (around 1500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spcBef>
                <a:spcPts val="4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Arial Italic"/>
                <a:ea typeface="Arial Italic"/>
              </a:rPr>
              <a:t>Medieval</a:t>
            </a:r>
            <a:r>
              <a:rPr b="0" lang="en-US" sz="4200" spc="-1" strike="noStrike">
                <a:solidFill>
                  <a:srgbClr val="d90b00"/>
                </a:solidFill>
                <a:latin typeface="Gill Sans"/>
              </a:rPr>
              <a:t> comes from the Latin for “middle age”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382680" indent="0">
              <a:lnSpc>
                <a:spcPct val="100000"/>
              </a:lnSpc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&gt;&gt;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177480" y="-1066680"/>
            <a:ext cx="13208040" cy="9880560"/>
          </a:xfrm>
          <a:prstGeom prst="rect">
            <a:avLst/>
          </a:prstGeom>
          <a:noFill/>
          <a:ln w="0">
            <a:noFill/>
          </a:ln>
        </p:spPr>
        <p:txBody>
          <a:bodyPr lIns="50760" rIns="14040" tIns="50760" bIns="50760" anchor="ctr">
            <a:normAutofit/>
          </a:bodyPr>
          <a:p>
            <a:pPr marL="382680" indent="-343080" algn="ctr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4fe"/>
                </a:solidFill>
                <a:latin typeface="Gill Sans"/>
              </a:rPr>
              <a:t>Who Started the Middle Ages:Germanic Trib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90b00"/>
                </a:solidFill>
                <a:latin typeface="Gill Sans"/>
              </a:rPr>
              <a:t>Could not </a:t>
            </a:r>
            <a:r>
              <a:rPr b="0" lang="en-US" sz="4200" spc="-1" strike="noStrike" u="sng">
                <a:solidFill>
                  <a:srgbClr val="d90b00"/>
                </a:solidFill>
                <a:uFillTx/>
                <a:latin typeface="Gill Sans"/>
              </a:rPr>
              <a:t>read</a:t>
            </a:r>
            <a:r>
              <a:rPr b="0" lang="en-US" sz="4200" spc="-1" strike="noStrike">
                <a:solidFill>
                  <a:srgbClr val="d90b00"/>
                </a:solidFill>
                <a:latin typeface="Gill Sans"/>
              </a:rPr>
              <a:t> or </a:t>
            </a:r>
            <a:r>
              <a:rPr b="0" lang="en-US" sz="4200" spc="-1" strike="noStrike" u="sng">
                <a:solidFill>
                  <a:srgbClr val="d90b00"/>
                </a:solidFill>
                <a:uFillTx/>
                <a:latin typeface="Gill Sans"/>
              </a:rPr>
              <a:t>write</a:t>
            </a:r>
            <a:r>
              <a:rPr b="0" lang="en-US" sz="4200" spc="-1" strike="noStrike">
                <a:solidFill>
                  <a:srgbClr val="d90b00"/>
                </a:solidFill>
                <a:latin typeface="Gill Sans"/>
              </a:rPr>
              <a:t> so </a:t>
            </a:r>
            <a:r>
              <a:rPr b="0" lang="en-US" sz="4200" spc="-1" strike="noStrike" u="sng">
                <a:solidFill>
                  <a:srgbClr val="d90b00"/>
                </a:solidFill>
                <a:uFillTx/>
                <a:latin typeface="Gill Sans"/>
              </a:rPr>
              <a:t>learning</a:t>
            </a:r>
            <a:r>
              <a:rPr b="0" lang="en-US" sz="4200" spc="-1" strike="noStrike">
                <a:solidFill>
                  <a:srgbClr val="d90b00"/>
                </a:solidFill>
                <a:latin typeface="Gill Sans"/>
              </a:rPr>
              <a:t> declin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382680" indent="-34308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Gill Sans"/>
              </a:rPr>
              <a:t>NO WRITTEN</a:t>
            </a:r>
            <a:r>
              <a:rPr b="0" lang="en-US" sz="4200" spc="-1" strike="noStrike">
                <a:solidFill>
                  <a:srgbClr val="d90b00"/>
                </a:solidFill>
                <a:latin typeface="Gill Sans"/>
              </a:rPr>
              <a:t> languag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382680" indent="0">
              <a:lnSpc>
                <a:spcPct val="100000"/>
              </a:lnSpc>
              <a:spcBef>
                <a:spcPts val="4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584280"/>
            <a:ext cx="12407760" cy="18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ctr">
            <a:noAutofit/>
          </a:bodyPr>
          <a:p>
            <a:pPr marL="57240" algn="ctr">
              <a:lnSpc>
                <a:spcPct val="100000"/>
              </a:lnSpc>
              <a:spcBef>
                <a:spcPts val="7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200" spc="-1" strike="noStrike">
                <a:solidFill>
                  <a:srgbClr val="ff3300"/>
                </a:solidFill>
                <a:latin typeface="Comic Sans MS Bold"/>
                <a:ea typeface="Comic Sans MS Bold"/>
              </a:rPr>
              <a:t> </a:t>
            </a:r>
            <a:endParaRPr b="0" lang="en-US" sz="10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1511280" y="108000"/>
            <a:ext cx="10464840" cy="635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57960" tIns="0" bIns="0" anchor="ctr">
            <a:noAutofit/>
          </a:bodyPr>
          <a:p>
            <a:pPr marL="57240" algn="ctr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a00e6"/>
                </a:solidFill>
                <a:latin typeface="Comic Sans MS Bold"/>
                <a:ea typeface="Comic Sans MS Bold"/>
              </a:rPr>
              <a:t>The Germanic Tribes 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9" name=""/>
          <p:cNvSpPr/>
          <p:nvPr/>
        </p:nvSpPr>
        <p:spPr>
          <a:xfrm>
            <a:off x="533520" y="1765440"/>
            <a:ext cx="10147320" cy="888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57960" tIns="0" bIns="0" anchor="ctr">
            <a:noAutofit/>
          </a:bodyPr>
          <a:p>
            <a:pPr marL="39600">
              <a:lnSpc>
                <a:spcPct val="100000"/>
              </a:lnSpc>
              <a:spcBef>
                <a:spcPts val="3600"/>
              </a:spcBef>
              <a:buClr>
                <a:srgbClr val="000066"/>
              </a:buClr>
              <a:buFont typeface="Wingdings 2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2712"/>
                </a:solidFill>
                <a:latin typeface="Comic Sans MS Bold"/>
                <a:ea typeface="Comic Sans MS Bold"/>
              </a:rPr>
              <a:t>were skilled at farming </a:t>
            </a:r>
            <a:endParaRPr b="0" lang="en-US" sz="5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10744200" y="1320840"/>
            <a:ext cx="1625760" cy="139392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2"/>
          <a:stretch/>
        </p:blipFill>
        <p:spPr>
          <a:xfrm>
            <a:off x="9321840" y="3997440"/>
            <a:ext cx="1841400" cy="120312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3"/>
          <a:stretch/>
        </p:blipFill>
        <p:spPr>
          <a:xfrm>
            <a:off x="7912080" y="5423040"/>
            <a:ext cx="1254240" cy="147312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4"/>
          <a:stretch/>
        </p:blipFill>
        <p:spPr>
          <a:xfrm>
            <a:off x="9423360" y="6934320"/>
            <a:ext cx="1668600" cy="192708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584280" y="3201840"/>
            <a:ext cx="10578960" cy="1778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57960" tIns="0" bIns="0" anchor="ctr">
            <a:noAutofit/>
          </a:bodyPr>
          <a:p>
            <a:pPr marL="39600">
              <a:lnSpc>
                <a:spcPct val="100000"/>
              </a:lnSpc>
              <a:spcBef>
                <a:spcPts val="3600"/>
              </a:spcBef>
              <a:buClr>
                <a:srgbClr val="ff3300"/>
              </a:buClr>
              <a:buFont typeface="Wingdings 2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90b00"/>
                </a:solidFill>
                <a:latin typeface="Comic Sans MS Bold"/>
                <a:ea typeface="Comic Sans MS Bold"/>
              </a:rPr>
              <a:t>stayed in small villages and did not develop cities.</a:t>
            </a:r>
            <a:endParaRPr b="0" lang="en-US" sz="5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5" name=""/>
          <p:cNvSpPr/>
          <p:nvPr/>
        </p:nvSpPr>
        <p:spPr>
          <a:xfrm>
            <a:off x="493560" y="5292720"/>
            <a:ext cx="9374400" cy="888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57960" tIns="0" bIns="0" anchor="ctr">
            <a:noAutofit/>
          </a:bodyPr>
          <a:p>
            <a:pPr marL="39600">
              <a:lnSpc>
                <a:spcPct val="100000"/>
              </a:lnSpc>
              <a:spcBef>
                <a:spcPts val="3600"/>
              </a:spcBef>
              <a:buClr>
                <a:srgbClr val="000066"/>
              </a:buClr>
              <a:buFont typeface="Wingdings 2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90b00"/>
                </a:solidFill>
                <a:latin typeface="Comic Sans MS Bold"/>
                <a:ea typeface="Comic Sans MS Bold"/>
              </a:rPr>
              <a:t>had no written laws.</a:t>
            </a:r>
            <a:endParaRPr b="0" lang="en-US" sz="5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6" name=""/>
          <p:cNvSpPr/>
          <p:nvPr/>
        </p:nvSpPr>
        <p:spPr>
          <a:xfrm>
            <a:off x="482760" y="6502320"/>
            <a:ext cx="10248840" cy="889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57960" tIns="0" bIns="0" anchor="ctr">
            <a:noAutofit/>
          </a:bodyPr>
          <a:p>
            <a:pPr marL="39600">
              <a:lnSpc>
                <a:spcPct val="100000"/>
              </a:lnSpc>
              <a:spcBef>
                <a:spcPts val="3600"/>
              </a:spcBef>
              <a:buClr>
                <a:srgbClr val="ff3300"/>
              </a:buClr>
              <a:buFont typeface="Wingdings 2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2712"/>
                </a:solidFill>
                <a:latin typeface="Comic Sans MS Bold"/>
                <a:ea typeface="Comic Sans MS Bold"/>
              </a:rPr>
              <a:t>were ruled by kings </a:t>
            </a:r>
            <a:endParaRPr b="0" lang="en-US" sz="5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0" y="0"/>
            <a:ext cx="12407760" cy="18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ctr">
            <a:noAutofit/>
          </a:bodyPr>
          <a:p>
            <a:pPr marL="57240" algn="ctr">
              <a:lnSpc>
                <a:spcPct val="100000"/>
              </a:lnSpc>
              <a:spcBef>
                <a:spcPts val="7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200" spc="-1" strike="noStrike">
                <a:solidFill>
                  <a:srgbClr val="ff3300"/>
                </a:solidFill>
                <a:latin typeface="Comic Sans MS Bold"/>
                <a:ea typeface="Comic Sans MS Bold"/>
              </a:rPr>
              <a:t> </a:t>
            </a:r>
            <a:endParaRPr b="0" lang="en-US" sz="10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8" name=""/>
          <p:cNvSpPr/>
          <p:nvPr/>
        </p:nvSpPr>
        <p:spPr>
          <a:xfrm>
            <a:off x="330120" y="1557360"/>
            <a:ext cx="9804600" cy="1778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57960" tIns="0" bIns="0" anchor="ctr">
            <a:noAutofit/>
          </a:bodyPr>
          <a:p>
            <a:pPr marL="39600">
              <a:lnSpc>
                <a:spcPct val="100000"/>
              </a:lnSpc>
              <a:spcBef>
                <a:spcPts val="3600"/>
              </a:spcBef>
              <a:buClr>
                <a:srgbClr val="000066"/>
              </a:buClr>
              <a:buFont typeface="Wingdings 2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66"/>
                </a:solidFill>
                <a:latin typeface="Comic Sans MS Bold"/>
                <a:ea typeface="Comic Sans MS Bold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Comic Sans MS Bold"/>
                <a:ea typeface="Comic Sans MS Bold"/>
              </a:rPr>
              <a:t>Germanic tribes fought among themselves.</a:t>
            </a:r>
            <a:endParaRPr b="0" lang="en-US" sz="5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9" name=""/>
          <p:cNvSpPr/>
          <p:nvPr/>
        </p:nvSpPr>
        <p:spPr>
          <a:xfrm>
            <a:off x="1292400" y="216000"/>
            <a:ext cx="10785240" cy="8506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57960" tIns="0" bIns="0" anchor="ctr">
            <a:noAutofit/>
          </a:bodyPr>
          <a:p>
            <a:pPr marL="57240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00e6"/>
                </a:solidFill>
                <a:latin typeface="Comic Sans MS Bold"/>
                <a:ea typeface="Comic Sans MS Bold"/>
              </a:rPr>
              <a:t>In the  early Middle Ages: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8991720" y="4114800"/>
            <a:ext cx="2584440" cy="145584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8674200" y="6054840"/>
            <a:ext cx="2000160" cy="153036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9105840" y="1623960"/>
            <a:ext cx="2178000" cy="139860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330120" y="3898800"/>
            <a:ext cx="9702720" cy="1778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57960" tIns="0" bIns="0" anchor="ctr">
            <a:noAutofit/>
          </a:bodyPr>
          <a:p>
            <a:pPr marL="39600">
              <a:lnSpc>
                <a:spcPct val="100000"/>
              </a:lnSpc>
              <a:spcBef>
                <a:spcPts val="3600"/>
              </a:spcBef>
              <a:buClr>
                <a:srgbClr val="ff3300"/>
              </a:buClr>
              <a:buFont typeface="Wingdings 2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90b00"/>
                </a:solidFill>
                <a:latin typeface="Comic Sans MS Bold"/>
                <a:ea typeface="Comic Sans MS Bold"/>
              </a:rPr>
              <a:t> </a:t>
            </a:r>
            <a:r>
              <a:rPr b="0" lang="en-US" sz="5000" spc="-1" strike="noStrike">
                <a:solidFill>
                  <a:srgbClr val="d90b00"/>
                </a:solidFill>
                <a:latin typeface="Comic Sans MS Bold"/>
                <a:ea typeface="Comic Sans MS Bold"/>
              </a:rPr>
              <a:t>Europe was invaded by outside groups.</a:t>
            </a:r>
            <a:endParaRPr b="0" lang="en-US" sz="5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4" name=""/>
          <p:cNvSpPr/>
          <p:nvPr/>
        </p:nvSpPr>
        <p:spPr>
          <a:xfrm>
            <a:off x="393840" y="5956200"/>
            <a:ext cx="8839080" cy="1778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57960" tIns="0" bIns="0" anchor="ctr">
            <a:noAutofit/>
          </a:bodyPr>
          <a:p>
            <a:pPr marL="39600">
              <a:lnSpc>
                <a:spcPct val="100000"/>
              </a:lnSpc>
              <a:spcBef>
                <a:spcPts val="3600"/>
              </a:spcBef>
              <a:buClr>
                <a:srgbClr val="000066"/>
              </a:buClr>
              <a:buFont typeface="Wingdings 2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2712"/>
                </a:solidFill>
                <a:latin typeface="Comic Sans MS Bold"/>
                <a:ea typeface="Comic Sans MS Bold"/>
              </a:rPr>
              <a:t> </a:t>
            </a:r>
            <a:r>
              <a:rPr b="0" lang="en-US" sz="5000" spc="-1" strike="noStrike">
                <a:solidFill>
                  <a:srgbClr val="ff2712"/>
                </a:solidFill>
                <a:latin typeface="Comic Sans MS Bold"/>
                <a:ea typeface="Comic Sans MS Bold"/>
              </a:rPr>
              <a:t>people struggled for basic needs.</a:t>
            </a:r>
            <a:endParaRPr b="0" lang="en-US" sz="50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4"/>
          <a:stretch/>
        </p:blipFill>
        <p:spPr>
          <a:xfrm>
            <a:off x="9321840" y="7581960"/>
            <a:ext cx="1538280" cy="184140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5"/>
          <a:stretch/>
        </p:blipFill>
        <p:spPr>
          <a:xfrm>
            <a:off x="9867960" y="4629240"/>
            <a:ext cx="647640" cy="46332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127080" y="127080"/>
            <a:ext cx="12407760" cy="18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7960" tIns="0" bIns="0" anchor="ctr">
            <a:noAutofit/>
          </a:bodyPr>
          <a:p>
            <a:pPr marL="57240" algn="ctr">
              <a:lnSpc>
                <a:spcPct val="100000"/>
              </a:lnSpc>
              <a:spcBef>
                <a:spcPts val="71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200" spc="-1" strike="noStrike">
                <a:solidFill>
                  <a:srgbClr val="ff3300"/>
                </a:solidFill>
                <a:latin typeface="Comic Sans MS Bold"/>
                <a:ea typeface="Comic Sans MS Bold"/>
              </a:rPr>
              <a:t> </a:t>
            </a:r>
            <a:endParaRPr b="0" lang="en-US" sz="10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